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864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7CC3-0870-425A-BBEF-46D57E3062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7993-9730-4E65-9D7A-F859AB80D2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2E9C-B5BB-498B-A473-D69BB2517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8278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4440" y="3669480"/>
            <a:ext cx="8278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2841-8EBB-4A27-9438-D15A1C351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444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4668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953B-B6CD-44F8-85C6-E0CF85F63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3440" y="9838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2800" y="9838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4440" y="36694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3440" y="36694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2800" y="36694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CFD6-7115-4535-88E8-F2DC4E0BC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4440" y="983880"/>
            <a:ext cx="827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827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4440" y="104400"/>
            <a:ext cx="828828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444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4440" y="983880"/>
            <a:ext cx="827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5623-78B7-4DC3-965B-F0D17BBEA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4668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4440" y="3669480"/>
            <a:ext cx="8278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8278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4440" y="3669480"/>
            <a:ext cx="8278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44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4668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3440" y="9838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02800" y="9838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4440" y="36694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3440" y="36694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02800" y="36694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827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41AB-4B21-44D6-B7B4-1661B76A5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0709-7E15-4B76-99F6-BC5057710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A074-E603-4F09-98B4-1099AFD60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4440" y="104400"/>
            <a:ext cx="828828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17C9-A59F-4EC7-AD53-E2FA51A65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444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C880-23A8-4E41-88FF-15524F42D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4668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0CDF-4CDE-415F-9F16-F622EF8D7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4440" y="3669480"/>
            <a:ext cx="8278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A164-33B6-4443-A6B4-83F0B265F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96880" y="6783480"/>
            <a:ext cx="8547120" cy="74520"/>
          </a:xfrm>
          <a:prstGeom prst="rect">
            <a:avLst/>
          </a:prstGeom>
          <a:solidFill>
            <a:srgbClr val="0095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90400" y="785880"/>
            <a:ext cx="8553600" cy="3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4440" y="983880"/>
            <a:ext cx="827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95ce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538200" indent="-182520">
              <a:spcBef>
                <a:spcPts val="499"/>
              </a:spcBef>
              <a:buClr>
                <a:srgbClr val="0095ce"/>
              </a:buClr>
              <a:buSzPct val="120000"/>
              <a:buFont typeface="Tahom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  <a:p>
            <a:pPr lvl="2" marL="900000" indent="-182520">
              <a:spcBef>
                <a:spcPts val="499"/>
              </a:spcBef>
              <a:buClr>
                <a:srgbClr val="0095ce"/>
              </a:buClr>
              <a:buSzPct val="120000"/>
              <a:buFont typeface="Tahom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  <a:p>
            <a:pPr lvl="3" marL="1254240" indent="-174600">
              <a:spcBef>
                <a:spcPts val="499"/>
              </a:spcBef>
              <a:buClr>
                <a:srgbClr val="00386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  <a:p>
            <a:pPr lvl="4" marL="1976400" indent="-182520">
              <a:spcBef>
                <a:spcPts val="499"/>
              </a:spcBef>
              <a:buClr>
                <a:srgbClr val="0038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  <a:p>
            <a:pPr lvl="5" marL="1976400" indent="-182520">
              <a:spcBef>
                <a:spcPts val="499"/>
              </a:spcBef>
              <a:buClr>
                <a:srgbClr val="0038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  <a:p>
            <a:pPr lvl="6" marL="1976400" indent="-182520">
              <a:spcBef>
                <a:spcPts val="499"/>
              </a:spcBef>
              <a:buClr>
                <a:srgbClr val="0038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68800" y="6367320"/>
            <a:ext cx="21337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b799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41BF-E4FE-4323-9D14-ECFB77AD5C18}" type="slidenum">
              <a:rPr b="0" lang="en-US" sz="2400" spc="-1" strike="noStrike">
                <a:solidFill>
                  <a:srgbClr val="6b799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28600" y="1353960"/>
            <a:ext cx="8015400" cy="5080320"/>
          </a:xfrm>
          <a:prstGeom prst="rect">
            <a:avLst/>
          </a:prstGeom>
          <a:solidFill>
            <a:srgbClr val="e6e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5320" y="3776760"/>
            <a:ext cx="65977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86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  <a:p>
            <a:pPr lvl="1" marL="538200" indent="-182520" algn="ctr">
              <a:spcBef>
                <a:spcPts val="499"/>
              </a:spcBef>
              <a:buClr>
                <a:srgbClr val="0095ce"/>
              </a:buClr>
              <a:buSzPct val="120000"/>
              <a:buFont typeface="Tahom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2" marL="812880" indent="811080" algn="ctr">
              <a:spcBef>
                <a:spcPts val="451"/>
              </a:spcBef>
              <a:buClr>
                <a:srgbClr val="0095ce"/>
              </a:buClr>
              <a:buSzPct val="120000"/>
              <a:buFont typeface="Tahoma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lvl="3" marL="1803240" indent="720720" algn="ctr">
              <a:spcBef>
                <a:spcPts val="400"/>
              </a:spcBef>
              <a:buClr>
                <a:srgbClr val="003864"/>
              </a:buClr>
              <a:buFont typeface="Tahoma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6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lvl="4" marL="2703600" indent="542880" algn="ctr">
              <a:spcBef>
                <a:spcPts val="349"/>
              </a:spcBef>
              <a:buClr>
                <a:srgbClr val="00386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64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3864"/>
              </a:solidFill>
              <a:latin typeface="Tahoma"/>
            </a:endParaRPr>
          </a:p>
          <a:p>
            <a:pPr lvl="5" marL="2703600" indent="542880">
              <a:spcBef>
                <a:spcPts val="349"/>
              </a:spcBef>
              <a:buClr>
                <a:srgbClr val="0038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64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3864"/>
              </a:solidFill>
              <a:latin typeface="Tahoma"/>
            </a:endParaRPr>
          </a:p>
          <a:p>
            <a:pPr lvl="6" marL="2703600" indent="542880">
              <a:spcBef>
                <a:spcPts val="349"/>
              </a:spcBef>
              <a:buClr>
                <a:srgbClr val="0038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64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386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3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160" y="3129120"/>
            <a:ext cx="7737480" cy="909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64"/>
                </a:solidFill>
                <a:latin typeface="Arial"/>
              </a:rPr>
              <a:t>Разработка технологического раздела концепции </a:t>
            </a:r>
            <a:br>
              <a:rPr sz="2400"/>
            </a:br>
            <a:r>
              <a:rPr b="1" lang="en-US" sz="2400" spc="-1" strike="noStrike">
                <a:solidFill>
                  <a:srgbClr val="003864"/>
                </a:solidFill>
                <a:latin typeface="Arial"/>
              </a:rPr>
              <a:t>Системы управления знаниями предприятия</a:t>
            </a:r>
            <a:endParaRPr b="1" lang="en-US" sz="24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0280" y="1394280"/>
            <a:ext cx="627372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864"/>
                </a:solidFill>
                <a:latin typeface="Arial"/>
              </a:rPr>
              <a:t>«МОСКОВСКИЙ ФИЗИКО-ТЕХНИЧЕСКИЙ ИНСТИТУТ 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864"/>
                </a:solidFill>
                <a:latin typeface="Arial"/>
              </a:rPr>
              <a:t>(государственный университет)» 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864"/>
                </a:solidFill>
                <a:latin typeface="Arial"/>
              </a:rPr>
              <a:t>Факультет аэрофизики и космических исследований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864"/>
                </a:solidFill>
                <a:latin typeface="Arial"/>
              </a:rPr>
              <a:t>Направление «Системный анализ и управление»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4280" y="6415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38280" y="4193640"/>
            <a:ext cx="654372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Утицких Ольга</a:t>
            </a: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Ивановна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864"/>
                </a:solidFill>
                <a:latin typeface="Arial"/>
              </a:rPr>
              <a:t>студентка 437гр.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864"/>
                </a:solidFill>
                <a:latin typeface="Arial"/>
              </a:rPr>
              <a:t>Специалист ЦУЗ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3864"/>
                </a:solidFill>
                <a:uFillTx/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864"/>
                </a:solidFill>
                <a:latin typeface="Arial"/>
              </a:rPr>
              <a:t>к. т. н., доцент </a:t>
            </a: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Сапунцов Владимир Дмитриевич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864"/>
                </a:solidFill>
                <a:latin typeface="Arial"/>
              </a:rPr>
              <a:t>Директор Центра управления знаниями ООО «ИБС Экспертиза»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Июнь 2008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Рассматриваемые технологии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931000" y="4849920"/>
            <a:ext cx="1760400" cy="181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90400" y="1206360"/>
          <a:ext cx="8197920" cy="3402000"/>
        </p:xfrm>
        <a:graphic>
          <a:graphicData uri="http://schemas.openxmlformats.org/drawingml/2006/table">
            <a:tbl>
              <a:tblPr/>
              <a:tblGrid>
                <a:gridCol w="2457720"/>
                <a:gridCol w="574020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Компания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Название продукта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IBS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Documentum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Медиалогия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Microsoft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Microsoft Office SharePoint Server </a:t>
                      </a: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(MOSS)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SAP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Enterprise Portal Knowledge Management (SAP KM)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Convera technologies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RetrievalWare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ABBYY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FlexiCapture 8.0 Professional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Atlassian</a:t>
                      </a: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Confluence</a:t>
                      </a: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3D7E-E697-4B54-9DE4-0E155CB88C88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Выбор технологических платформ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04800" y="1133640"/>
          <a:ext cx="8291520" cy="4895640"/>
        </p:xfrm>
        <a:graphic>
          <a:graphicData uri="http://schemas.openxmlformats.org/drawingml/2006/table">
            <a:tbl>
              <a:tblPr/>
              <a:tblGrid>
                <a:gridCol w="1681200"/>
                <a:gridCol w="1457280"/>
                <a:gridCol w="1581120"/>
                <a:gridCol w="2000160"/>
                <a:gridCol w="1571760"/>
              </a:tblGrid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864"/>
                          </a:solidFill>
                          <a:latin typeface="Arial"/>
                          <a:ea typeface="Times New Roman"/>
                        </a:rPr>
                        <a:t>Продукт</a:t>
                      </a:r>
                      <a:endParaRPr b="0" lang="en-US" sz="16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864"/>
                          </a:solidFill>
                          <a:latin typeface="Arial"/>
                          <a:ea typeface="Arial"/>
                        </a:rPr>
                        <a:t>технические</a:t>
                      </a:r>
                      <a:r>
                        <a:rPr b="1" lang="en-US" sz="1600" spc="-1" strike="noStrike">
                          <a:solidFill>
                            <a:srgbClr val="00386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864"/>
                          </a:solidFill>
                          <a:latin typeface="Arial"/>
                        </a:rPr>
                        <a:t>требования</a:t>
                      </a:r>
                      <a:endParaRPr b="0" lang="en-US" sz="16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864"/>
                          </a:solidFill>
                          <a:latin typeface="Arial"/>
                        </a:rPr>
                        <a:t>требования</a:t>
                      </a:r>
                      <a:r>
                        <a:rPr b="1" lang="en-US" sz="1600" spc="-1" strike="noStrike">
                          <a:solidFill>
                            <a:srgbClr val="003864"/>
                          </a:solidFill>
                          <a:latin typeface="Arial"/>
                        </a:rPr>
                        <a:t> к </a:t>
                      </a:r>
                      <a:r>
                        <a:rPr b="1" lang="ru-RU" sz="1600" spc="-1" strike="noStrike">
                          <a:solidFill>
                            <a:srgbClr val="003864"/>
                          </a:solidFill>
                          <a:latin typeface="Arial"/>
                        </a:rPr>
                        <a:t>функционалу</a:t>
                      </a:r>
                      <a:endParaRPr b="0" lang="en-US" sz="16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864"/>
                          </a:solidFill>
                          <a:latin typeface="Arial"/>
                        </a:rPr>
                        <a:t>требования к информационной безопасности</a:t>
                      </a:r>
                      <a:endParaRPr b="0" lang="en-US" sz="16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864"/>
                          </a:solidFill>
                          <a:latin typeface="Arial"/>
                        </a:rPr>
                        <a:t>наличие технологии и компетенций в IBS</a:t>
                      </a:r>
                      <a:endParaRPr b="0" lang="en-US" sz="16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SAP KM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Documentum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Медиалогия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MOSS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RetrievalWare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FlexiCapture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Confluence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4BBF-7156-4029-AD81-C3FE7D85BC6B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Выбор технологических платформ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625760" y="911160"/>
            <a:ext cx="626256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0010-ED75-415E-9956-63D133652654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7400" y="961920"/>
            <a:ext cx="6827760" cy="5505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Интеграционная архитектура СУЗ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584600" y="3852720"/>
            <a:ext cx="1473480" cy="7876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EA27-AF5E-40E9-B2BF-4623A6E91494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Выводы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4800" y="816120"/>
            <a:ext cx="8288280" cy="1022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indent="104760">
              <a:lnSpc>
                <a:spcPct val="130000"/>
              </a:lnSpc>
              <a:spcBef>
                <a:spcPts val="25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Современные портальные решения в полной мере соответствуют предлагаемой архитектуре СУЗ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4800" y="1835280"/>
            <a:ext cx="8288280" cy="1888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indent="104760">
              <a:lnSpc>
                <a:spcPct val="130000"/>
              </a:lnSpc>
              <a:spcBef>
                <a:spcPts val="25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Разрабатываемая Система управления знаниями должна быть интегрирована как с основными информационными ресурсами, которые уже используются в IBS, так и с основными бизнес-процессами компании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4800" y="3724200"/>
            <a:ext cx="8288280" cy="2409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indent="104760">
              <a:lnSpc>
                <a:spcPct val="130000"/>
              </a:lnSpc>
              <a:spcBef>
                <a:spcPts val="2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При разработке Системы управления знаниями основной упор должен приходиться на гуманитарные мероприятия по формированию культуры обмена знаниями и совместной работы. Использование информационных технологий должно поддерживать разработанные организационные мероприятия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877D-2207-4E17-9B79-559CA7ABEB0A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90400" y="2819520"/>
            <a:ext cx="7920360" cy="108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indent="104760">
              <a:lnSpc>
                <a:spcPct val="110000"/>
              </a:lnSpc>
              <a:spcBef>
                <a:spcPts val="2500"/>
              </a:spcBef>
              <a:spcAft>
                <a:spcPts val="10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Разработана функциональная архитектура СУЗ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5440" y="806400"/>
            <a:ext cx="7920000" cy="1079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indent="104760">
              <a:lnSpc>
                <a:spcPct val="110000"/>
              </a:lnSpc>
              <a:spcBef>
                <a:spcPts val="2251"/>
              </a:spcBef>
              <a:spcAft>
                <a:spcPts val="9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Выбрана основная технологическая платформа для реализации Системы управления знаниями в </a:t>
            </a:r>
            <a:r>
              <a:rPr b="1" lang="en-US" sz="2000" spc="-1" strike="noStrike">
                <a:solidFill>
                  <a:srgbClr val="003864"/>
                </a:solidFill>
                <a:latin typeface="Arial"/>
                <a:ea typeface="宋体"/>
              </a:rPr>
              <a:t>IBS</a:t>
            </a: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Результаты ВКР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00120" y="1847880"/>
            <a:ext cx="7920000" cy="990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indent="104760">
              <a:lnSpc>
                <a:spcPct val="110000"/>
              </a:lnSpc>
              <a:spcBef>
                <a:spcPts val="2500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Описан контент Подсистем СУЗ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5440" y="3898800"/>
            <a:ext cx="7920000" cy="1098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indent="104760">
              <a:lnSpc>
                <a:spcPct val="110000"/>
              </a:lnSpc>
              <a:spcBef>
                <a:spcPts val="2500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Разработана организационная архитектура СУЗ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4800" y="4933800"/>
            <a:ext cx="79200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indent="104760">
              <a:lnSpc>
                <a:spcPct val="110000"/>
              </a:lnSpc>
              <a:spcBef>
                <a:spcPts val="2500"/>
              </a:spcBef>
              <a:spcAft>
                <a:spcPts val="10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Результаты разработки вошли в Концепцию Системы управления знаниями </a:t>
            </a: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IBS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215C-8F05-4AF2-BA66-4E008B1D19E9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81120" y="5535360"/>
            <a:ext cx="3990960" cy="59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864"/>
                </a:solidFill>
                <a:latin typeface="Arial"/>
              </a:rPr>
              <a:t>Спасибо за внимание!</a:t>
            </a:r>
            <a:endParaRPr b="1" lang="en-US" sz="26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24240" y="1355760"/>
            <a:ext cx="2279520" cy="2279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iceberg"/>
          <p:cNvPicPr/>
          <p:nvPr/>
        </p:nvPicPr>
        <p:blipFill>
          <a:blip r:embed="rId2"/>
          <a:stretch/>
        </p:blipFill>
        <p:spPr>
          <a:xfrm>
            <a:off x="1581120" y="863640"/>
            <a:ext cx="3362400" cy="3449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119560" y="3400560"/>
            <a:ext cx="38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89520" y="1658520"/>
            <a:ext cx="420048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Утицких Ольга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Ивановна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студентка 437гр.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Специалист ЦУЗ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864"/>
                </a:solidFill>
                <a:uFillTx/>
                <a:latin typeface="Arial"/>
              </a:rPr>
              <a:t>Научный руководитель: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к. т. н., доцент 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Сапунцов Владимир Дмитриевич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Директор ЦУЗ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ООО «ИБС Экспертиза»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864"/>
                </a:solidFill>
                <a:latin typeface="Arial"/>
              </a:rPr>
              <a:t>Июнь 2008</a:t>
            </a:r>
            <a:endParaRPr b="0" lang="en-US" sz="15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5D85-516B-43C5-9DC3-B4965CC3C8EA}" type="slidenum">
              <a:t>16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0040" y="114480"/>
            <a:ext cx="8302680" cy="71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Оглавление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79600" y="4056120"/>
            <a:ext cx="8229600" cy="457200"/>
            <a:chOff x="579600" y="4056120"/>
            <a:chExt cx="8229600" cy="457200"/>
          </a:xfrm>
        </p:grpSpPr>
        <p:sp>
          <p:nvSpPr>
            <p:cNvPr id="95" name=""/>
            <p:cNvSpPr/>
            <p:nvPr/>
          </p:nvSpPr>
          <p:spPr>
            <a:xfrm>
              <a:off x="1871640" y="4056120"/>
              <a:ext cx="465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64"/>
                  </a:solidFill>
                  <a:latin typeface="Arial"/>
                </a:rPr>
                <a:t>Выбор технологических платформ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600" y="407196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4240" y="422460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9600" y="3308400"/>
            <a:ext cx="8567640" cy="436680"/>
            <a:chOff x="579600" y="3308400"/>
            <a:chExt cx="8567640" cy="436680"/>
          </a:xfrm>
        </p:grpSpPr>
        <p:sp>
          <p:nvSpPr>
            <p:cNvPr id="99" name=""/>
            <p:cNvSpPr/>
            <p:nvPr/>
          </p:nvSpPr>
          <p:spPr>
            <a:xfrm>
              <a:off x="579600" y="3308400"/>
              <a:ext cx="914040" cy="3808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23880" y="3438360"/>
              <a:ext cx="7284600" cy="28836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64800" y="3346200"/>
              <a:ext cx="728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64"/>
                  </a:solidFill>
                  <a:latin typeface="Arial"/>
                </a:rPr>
                <a:t>Ключевые подсистемы Системы управления знаниями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1040" y="2538360"/>
            <a:ext cx="8229600" cy="441360"/>
            <a:chOff x="581040" y="2538360"/>
            <a:chExt cx="8229600" cy="441360"/>
          </a:xfrm>
        </p:grpSpPr>
        <p:sp>
          <p:nvSpPr>
            <p:cNvPr id="103" name=""/>
            <p:cNvSpPr/>
            <p:nvPr/>
          </p:nvSpPr>
          <p:spPr>
            <a:xfrm>
              <a:off x="1876680" y="2548080"/>
              <a:ext cx="66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864"/>
                  </a:solidFill>
                  <a:latin typeface="Arial"/>
                </a:rPr>
                <a:t>Актуальность создания Системы УЗ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1040" y="253836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5680" y="269100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6360" y="1781280"/>
            <a:ext cx="8229600" cy="441360"/>
            <a:chOff x="576360" y="1781280"/>
            <a:chExt cx="8229600" cy="441360"/>
          </a:xfrm>
        </p:grpSpPr>
        <p:sp>
          <p:nvSpPr>
            <p:cNvPr id="107" name=""/>
            <p:cNvSpPr/>
            <p:nvPr/>
          </p:nvSpPr>
          <p:spPr>
            <a:xfrm>
              <a:off x="1872000" y="1791000"/>
              <a:ext cx="66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864"/>
                  </a:solidFill>
                  <a:latin typeface="Arial"/>
                </a:rPr>
                <a:t>Постановка задачи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6360" y="178128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1000" y="193392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77800" y="1020600"/>
            <a:ext cx="8229600" cy="441360"/>
            <a:chOff x="577800" y="1020600"/>
            <a:chExt cx="8229600" cy="441360"/>
          </a:xfrm>
        </p:grpSpPr>
        <p:sp>
          <p:nvSpPr>
            <p:cNvPr id="111" name=""/>
            <p:cNvSpPr/>
            <p:nvPr/>
          </p:nvSpPr>
          <p:spPr>
            <a:xfrm>
              <a:off x="1873440" y="1030320"/>
              <a:ext cx="66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864"/>
                  </a:solidFill>
                  <a:latin typeface="Arial"/>
                </a:rPr>
                <a:t>Цель квалификационной работы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7800" y="102060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440" y="117324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82480" y="4870440"/>
            <a:ext cx="8229600" cy="457200"/>
            <a:chOff x="582480" y="4870440"/>
            <a:chExt cx="8229600" cy="457200"/>
          </a:xfrm>
        </p:grpSpPr>
        <p:sp>
          <p:nvSpPr>
            <p:cNvPr id="115" name=""/>
            <p:cNvSpPr/>
            <p:nvPr/>
          </p:nvSpPr>
          <p:spPr>
            <a:xfrm>
              <a:off x="1878480" y="4870440"/>
              <a:ext cx="127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64"/>
                  </a:solidFill>
                  <a:latin typeface="Arial"/>
                </a:rPr>
                <a:t>Выводы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2480" y="488628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120" y="503892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590400" y="5646600"/>
            <a:ext cx="8229600" cy="457200"/>
            <a:chOff x="590400" y="5646600"/>
            <a:chExt cx="8229600" cy="457200"/>
          </a:xfrm>
        </p:grpSpPr>
        <p:sp>
          <p:nvSpPr>
            <p:cNvPr id="120" name=""/>
            <p:cNvSpPr/>
            <p:nvPr/>
          </p:nvSpPr>
          <p:spPr>
            <a:xfrm>
              <a:off x="1877400" y="5646600"/>
              <a:ext cx="676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64"/>
                  </a:solidFill>
                  <a:latin typeface="Arial"/>
                </a:rPr>
                <a:t>Результаты Выпускной квалификационной работы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0400" y="566244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35040" y="581508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A7F9-165D-444F-90C5-4D6A02366FE1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4800" y="911160"/>
            <a:ext cx="8082000" cy="2041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85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Разработка требований к Системе управления знаниями </a:t>
            </a: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IBS </a:t>
            </a: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    с точки зрения ее технологической поддержки, функциональности и архитектуры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85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Разработанные требования включаются в технологический раздел Концепции Системы управления знаниями </a:t>
            </a: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IBS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Цель квалификационной работы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4800" y="3124080"/>
            <a:ext cx="6386400" cy="321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856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Для достижения цели работы были поставлены следующие задачи: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85680">
              <a:spcBef>
                <a:spcPts val="1250"/>
              </a:spcBef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выбор и обоснование выбора технологической платформы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85680">
              <a:spcBef>
                <a:spcPts val="1250"/>
              </a:spcBef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описание будущего контента Подсистем СУЗ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85680">
              <a:spcBef>
                <a:spcPts val="1250"/>
              </a:spcBef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разработка функциональной архитектуры СУЗ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85680">
              <a:spcBef>
                <a:spcPts val="1250"/>
              </a:spcBef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разработка организационной архитектуры СУЗ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086600" y="4303800"/>
            <a:ext cx="1855800" cy="203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2A86-C393-4E19-B52F-38994AA3F3F8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66280" y="114480"/>
            <a:ext cx="8326440" cy="71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Управление знаниями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0120" y="22316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324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УЗ классически включает пять фундаментальных процессов: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66640" y="2741760"/>
            <a:ext cx="85107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24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1810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Создание: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результатом является новое знание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810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Поиск: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поиск и представление неявных знаний в явной форме, что делает возможным сбор индивидуальных знаний для коллективного использования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10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Систематизация (организация):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классификация и категоризация знаний с целью их последующего целенаправленного извлечения; поддержание целостности данных за счет реализации соответствующих процессов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0120" y="874800"/>
            <a:ext cx="8229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24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Управление знаниями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- систематическое формирование,  обновление и применение знаний с целью максимизации эффективности  предприятий.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Карл Вииг, 1986 г 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6537240" y="4751280"/>
            <a:ext cx="1779840" cy="1540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66640" y="4716360"/>
            <a:ext cx="576756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24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10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Доступ: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действия, с помощью которых знания посылаются или запрашиваются конкретным пользователем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1810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Использование: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применение знаний в работе, принятии решений и реализации возможностей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08C1-AC07-4CBD-9649-BB60777CF210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17800" y="2158920"/>
            <a:ext cx="3166920" cy="3167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e6e6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9600" y="114480"/>
            <a:ext cx="8324640" cy="7142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Система управления знаниями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6240" y="558792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Главное в СУЗ 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– создание в компании ОБСТАНОВКИ, которая бы мотивировала людей на обмен знаниями, помогала сохранять и применять знания наиболее эффективным образом</a:t>
            </a: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8640" y="2486160"/>
            <a:ext cx="1662120" cy="2317680"/>
          </a:xfrm>
          <a:prstGeom prst="borderCallout2">
            <a:avLst>
              <a:gd name="adj1" fmla="val 18750"/>
              <a:gd name="adj2" fmla="val -8333"/>
              <a:gd name="adj3" fmla="val 4930"/>
              <a:gd name="adj4" fmla="val 117861"/>
              <a:gd name="adj5" fmla="val 54111"/>
              <a:gd name="adj6" fmla="val 137439"/>
            </a:avLst>
          </a:prstGeom>
          <a:noFill/>
          <a:ln w="12600">
            <a:solidFill>
              <a:srgbClr val="2e629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buClr>
                <a:srgbClr val="003864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Процессы выявления, сохранения, применения знаний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Интеграция   с основными</a:t>
            </a:r>
            <a:br>
              <a:rPr sz="1600"/>
            </a:b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бизнес-процессами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00880" y="4111560"/>
            <a:ext cx="2189160" cy="1120680"/>
          </a:xfrm>
          <a:prstGeom prst="borderCallout2">
            <a:avLst>
              <a:gd name="adj1" fmla="val 18750"/>
              <a:gd name="adj2" fmla="val -8333"/>
              <a:gd name="adj3" fmla="val 10199"/>
              <a:gd name="adj4" fmla="val -11166"/>
              <a:gd name="adj5" fmla="val -14870"/>
              <a:gd name="adj6" fmla="val -27337"/>
            </a:avLst>
          </a:prstGeom>
          <a:noFill/>
          <a:ln w="12600">
            <a:solidFill>
              <a:srgbClr val="2e629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buClr>
                <a:srgbClr val="003864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Знания, опыт, навыки, умения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Мотивация обмена знаниями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316240"/>
            <a:ext cx="2332080" cy="846000"/>
          </a:xfrm>
          <a:prstGeom prst="borderCallout2">
            <a:avLst>
              <a:gd name="adj1" fmla="val 18750"/>
              <a:gd name="adj2" fmla="val -8333"/>
              <a:gd name="adj3" fmla="val 13509"/>
              <a:gd name="adj4" fmla="val -18787"/>
              <a:gd name="adj5" fmla="val 68666"/>
              <a:gd name="adj6" fmla="val -38189"/>
            </a:avLst>
          </a:prstGeom>
          <a:noFill/>
          <a:ln w="12600">
            <a:solidFill>
              <a:srgbClr val="2e629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buClr>
                <a:srgbClr val="003864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Информационные системы, порталы    и другие технологии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9280" y="3079080"/>
            <a:ext cx="1436400" cy="699840"/>
          </a:xfrm>
          <a:prstGeom prst="line">
            <a:avLst/>
          </a:prstGeom>
          <a:ln w="28440">
            <a:solidFill>
              <a:srgbClr val="e6e6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72640" y="3022920"/>
            <a:ext cx="1432080" cy="786960"/>
          </a:xfrm>
          <a:prstGeom prst="line">
            <a:avLst/>
          </a:prstGeom>
          <a:ln w="28440">
            <a:solidFill>
              <a:srgbClr val="e6e6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2160" y="3446640"/>
            <a:ext cx="0" cy="1879560"/>
          </a:xfrm>
          <a:prstGeom prst="line">
            <a:avLst/>
          </a:prstGeom>
          <a:ln w="38160">
            <a:solidFill>
              <a:srgbClr val="e6e6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13320" y="2851200"/>
            <a:ext cx="1784160" cy="178272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3454560" y="2506680"/>
            <a:ext cx="2093760" cy="148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764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864"/>
                  </a:solidFill>
                  <a:miter/>
                </a:ln>
                <a:solidFill>
                  <a:srgbClr val="003864"/>
                </a:solidFill>
                <a:latin typeface="Arial"/>
              </a:rPr>
              <a:t>Инфраструктура</a:t>
            </a:r>
            <a:endParaRPr b="0" lang="en-US" sz="1800" spc="1" strike="noStrike">
              <a:ln w="9360">
                <a:solidFill>
                  <a:srgbClr val="003864"/>
                </a:solidFill>
                <a:miter/>
              </a:ln>
              <a:solidFill>
                <a:srgbClr val="003864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6600" y="876240"/>
            <a:ext cx="83818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Система управления знаниями, далее СУЗ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- набор повторяемых на регулярной основе управленческих процедур, призванных повысить эффективность сбора, хранения, распространения и использования ценной информации с точки зрения компании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 rot="3151800">
            <a:off x="2979360" y="4235040"/>
            <a:ext cx="11559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864"/>
                  </a:solidFill>
                  <a:miter/>
                </a:ln>
                <a:solidFill>
                  <a:srgbClr val="003864"/>
                </a:solidFill>
                <a:latin typeface="Arial"/>
              </a:rPr>
              <a:t>Процессы</a:t>
            </a:r>
            <a:endParaRPr b="0" lang="en-US" sz="1800" spc="1" strike="noStrike">
              <a:ln w="9360">
                <a:solidFill>
                  <a:srgbClr val="003864"/>
                </a:solidFill>
                <a:miter/>
              </a:ln>
              <a:solidFill>
                <a:srgbClr val="003864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 rot="18195000">
            <a:off x="5113800" y="4185000"/>
            <a:ext cx="855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2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864"/>
                  </a:solidFill>
                  <a:miter/>
                </a:ln>
                <a:solidFill>
                  <a:srgbClr val="003864"/>
                </a:solidFill>
                <a:latin typeface="Arial"/>
              </a:rPr>
              <a:t>Люди</a:t>
            </a:r>
            <a:endParaRPr b="0" lang="en-US" sz="1800" spc="1" strike="noStrike">
              <a:ln w="9360">
                <a:solidFill>
                  <a:srgbClr val="003864"/>
                </a:solidFill>
                <a:miter/>
              </a:ln>
              <a:solidFill>
                <a:srgbClr val="003864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23760" y="3452760"/>
            <a:ext cx="179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Корпоративная 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культура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493F-DA57-4B8F-9FFA-0E1DACA3635B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15256" r="0" b="7727"/>
          <a:stretch/>
        </p:blipFill>
        <p:spPr>
          <a:xfrm>
            <a:off x="6340320" y="4494240"/>
            <a:ext cx="2800440" cy="1700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040" y="104400"/>
            <a:ext cx="8302680" cy="7333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Актуальность и опыт создания СУЗ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5480" y="1370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0120" y="4035600"/>
            <a:ext cx="5749920" cy="2435400"/>
          </a:xfrm>
          <a:prstGeom prst="rect">
            <a:avLst/>
          </a:prstGeom>
          <a:solidFill>
            <a:srgbClr val="99ccff">
              <a:alpha val="60000"/>
            </a:srgbClr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Компании, которые имеют в своем активе если не СУЗ, то программу управления знаниями: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54144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BP, Ernst&amp;Young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KPMG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McKinsey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Deloitte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lvl="1" marL="54144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IBM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Oracle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Intel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Ford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Xerox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Siemens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lvl="1" marL="54144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Северсталь, 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Oracle 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СНГ…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1040" y="1050840"/>
            <a:ext cx="8394840" cy="398880"/>
          </a:xfrm>
          <a:prstGeom prst="rect">
            <a:avLst/>
          </a:prstGeom>
          <a:solidFill>
            <a:srgbClr val="99ccff">
              <a:alpha val="15000"/>
            </a:srgbClr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Тема «Управление знаниями» развивается в мире около 20 лет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0120" y="1657440"/>
            <a:ext cx="7172280" cy="2118600"/>
          </a:xfrm>
          <a:prstGeom prst="rect">
            <a:avLst/>
          </a:prstGeom>
          <a:solidFill>
            <a:srgbClr val="ccecff">
              <a:alpha val="60000"/>
            </a:srgbClr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Основные причины, побуждающие внедрять УЗ: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54144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информационные перегрузки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lvl="1" marL="54144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ошибки из-за игнорирования предыдущего опыта 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lvl="1" marL="54144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потеря знаний при ротации кадров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lvl="1" marL="54144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«изобретение колеса»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19000" y="535320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19000" y="5789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819000" y="6237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809640" y="2281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809640" y="2736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809640" y="3156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819000" y="356400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3543-7EBE-4FA0-8842-05B078FFD566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90040" y="104400"/>
            <a:ext cx="8302680" cy="7333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5ce"/>
                </a:solidFill>
                <a:latin typeface="Arial"/>
              </a:rPr>
              <a:t>Актуальность создания </a:t>
            </a: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C</a:t>
            </a:r>
            <a:r>
              <a:rPr b="1" lang="ru-RU" sz="3000" spc="-1" strike="noStrike">
                <a:solidFill>
                  <a:srgbClr val="0095ce"/>
                </a:solidFill>
                <a:latin typeface="Arial"/>
              </a:rPr>
              <a:t>УЗ в </a:t>
            </a: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IBS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" y="4192560"/>
            <a:ext cx="8553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Выход на </a:t>
            </a: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IPO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61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акционеры должны быть уверены в том, что Компания повышает качество проектов, развивает персонал, сохраняет и наращивает опыт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0120" y="2075040"/>
            <a:ext cx="8055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Выход в регионы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61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все сотрудники компании должны иметь возможность использовать опыт всей компании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90400" y="5237280"/>
            <a:ext cx="835344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Стандарт ИСО 9004-2009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61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основные рекомендации стандарта: устойчивый рост компании, адаптация к изменениям, формирование знаний, инновация (обновление)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0400" y="3138480"/>
            <a:ext cx="8553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Рост числа проектов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61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в Компании выполняется около тысячи проектов в год, в результате возникает необходимость систематизировать и обобщать проектный опыт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400" y="101592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Слияния и поглощения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61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число сотрудников растет быстрыми темпами, что существенно затрудняет процессы обмена знаниями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6A7B-3DCB-40A1-9761-36857B1160A4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92360" y="900000"/>
            <a:ext cx="5499360" cy="4318200"/>
          </a:xfrm>
          <a:prstGeom prst="rect">
            <a:avLst/>
          </a:prstGeom>
          <a:solidFill>
            <a:srgbClr val="99ccff">
              <a:alpha val="37000"/>
            </a:srgbClr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48320" y="907920"/>
            <a:ext cx="344160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Технологический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вариант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оздание различных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Баз знаний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использование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пециализированных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поисковых систем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Fast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Convera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и др.)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оздание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порталов знаний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9400" y="1890720"/>
            <a:ext cx="5479920" cy="431784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Варианты решений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667480" y="2781360"/>
            <a:ext cx="439560" cy="43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92360" y="1889280"/>
            <a:ext cx="2136960" cy="3328920"/>
          </a:xfrm>
          <a:prstGeom prst="rect">
            <a:avLst/>
          </a:prstGeom>
          <a:solidFill>
            <a:srgbClr val="ccffcc">
              <a:alpha val="43000"/>
            </a:srgbClr>
          </a:solidFill>
          <a:ln w="25560">
            <a:solidFill>
              <a:srgbClr val="00386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9400" y="1889280"/>
            <a:ext cx="348444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6000"/>
          </a:bodyPr>
          <a:p>
            <a:pPr lvl="1" marL="347040" indent="-174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Гуманитарный вариант: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оздание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профессиональных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ообществ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группы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по решению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проблем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knowledge caf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é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оветы экспертов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80" name="j0431615" descr=""/>
          <p:cNvPicPr/>
          <p:nvPr/>
        </p:nvPicPr>
        <p:blipFill>
          <a:blip r:embed="rId3"/>
          <a:stretch/>
        </p:blipFill>
        <p:spPr>
          <a:xfrm>
            <a:off x="237960" y="2527200"/>
            <a:ext cx="438480" cy="438120"/>
          </a:xfrm>
          <a:prstGeom prst="rect">
            <a:avLst/>
          </a:prstGeom>
          <a:ln w="0">
            <a:noFill/>
          </a:ln>
        </p:spPr>
      </p:pic>
      <p:pic>
        <p:nvPicPr>
          <p:cNvPr id="181" name="j0431615" descr=""/>
          <p:cNvPicPr/>
          <p:nvPr/>
        </p:nvPicPr>
        <p:blipFill>
          <a:blip r:embed="rId4"/>
          <a:stretch/>
        </p:blipFill>
        <p:spPr>
          <a:xfrm>
            <a:off x="237960" y="3873600"/>
            <a:ext cx="438480" cy="438120"/>
          </a:xfrm>
          <a:prstGeom prst="rect">
            <a:avLst/>
          </a:prstGeom>
          <a:ln w="0">
            <a:noFill/>
          </a:ln>
        </p:spPr>
      </p:pic>
      <p:pic>
        <p:nvPicPr>
          <p:cNvPr id="182" name="j0431615" descr=""/>
          <p:cNvPicPr/>
          <p:nvPr/>
        </p:nvPicPr>
        <p:blipFill>
          <a:blip r:embed="rId5"/>
          <a:stretch/>
        </p:blipFill>
        <p:spPr>
          <a:xfrm>
            <a:off x="237960" y="4888080"/>
            <a:ext cx="43848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j0431615" descr=""/>
          <p:cNvPicPr/>
          <p:nvPr/>
        </p:nvPicPr>
        <p:blipFill>
          <a:blip r:embed="rId6"/>
          <a:stretch/>
        </p:blipFill>
        <p:spPr>
          <a:xfrm>
            <a:off x="237960" y="5533920"/>
            <a:ext cx="438480" cy="438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3576600" y="3749760"/>
            <a:ext cx="349200" cy="349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676840" y="1785960"/>
            <a:ext cx="439920" cy="439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5680080" y="4457880"/>
            <a:ext cx="439560" cy="4395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92360" y="2965320"/>
            <a:ext cx="2136960" cy="1492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lvl="1" marL="181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Смешанный вариант: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Комплексное  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FADB-9C52-48E0-B883-385EBC8209AE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921360" y="4448160"/>
            <a:ext cx="2016360" cy="1800360"/>
          </a:xfrm>
          <a:prstGeom prst="upArrowCallout">
            <a:avLst>
              <a:gd name="adj1" fmla="val 26985"/>
              <a:gd name="adj2" fmla="val 35180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4449600"/>
            <a:ext cx="2016000" cy="1800360"/>
          </a:xfrm>
          <a:prstGeom prst="upArrowCallout">
            <a:avLst>
              <a:gd name="adj1" fmla="val 26981"/>
              <a:gd name="adj2" fmla="val 35174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7760" y="4448160"/>
            <a:ext cx="2016000" cy="1800360"/>
          </a:xfrm>
          <a:prstGeom prst="upArrowCallout">
            <a:avLst>
              <a:gd name="adj1" fmla="val 26981"/>
              <a:gd name="adj2" fmla="val 35174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3360" y="4449600"/>
            <a:ext cx="2016000" cy="1800360"/>
          </a:xfrm>
          <a:prstGeom prst="upArrowCallout">
            <a:avLst>
              <a:gd name="adj1" fmla="val 26981"/>
              <a:gd name="adj2" fmla="val 35174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12000" y="1657440"/>
            <a:ext cx="2016000" cy="1800000"/>
          </a:xfrm>
          <a:prstGeom prst="upArrowCallout">
            <a:avLst>
              <a:gd name="adj1" fmla="val 26986"/>
              <a:gd name="adj2" fmla="val 35181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9960" y="1657440"/>
            <a:ext cx="2016360" cy="1800000"/>
          </a:xfrm>
          <a:prstGeom prst="upArrowCallout">
            <a:avLst>
              <a:gd name="adj1" fmla="val 26991"/>
              <a:gd name="adj2" fmla="val 35188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8280" y="1652760"/>
            <a:ext cx="2016000" cy="1800000"/>
          </a:xfrm>
          <a:prstGeom prst="upArrowCallout">
            <a:avLst>
              <a:gd name="adj1" fmla="val 26986"/>
              <a:gd name="adj2" fmla="val 35181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0120" y="961920"/>
            <a:ext cx="8343720" cy="66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87560"/>
            <a:ext cx="82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Ключевые подсистемы СУЗ </a:t>
            </a:r>
            <a:r>
              <a:rPr b="1" lang="en-US" sz="1800" spc="-1" strike="noStrike">
                <a:solidFill>
                  <a:srgbClr val="ed1b2e"/>
                </a:solidFill>
                <a:latin typeface="Arial"/>
              </a:rPr>
              <a:t>(первая очередь)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0680" y="104400"/>
            <a:ext cx="8312040" cy="7239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5ce"/>
                </a:solidFill>
                <a:latin typeface="Arial"/>
              </a:rPr>
              <a:t>Ключевые подсистемы СУЗ </a:t>
            </a: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IBS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0120" y="1652760"/>
            <a:ext cx="2016000" cy="1800000"/>
          </a:xfrm>
          <a:prstGeom prst="upArrowCallout">
            <a:avLst>
              <a:gd name="adj1" fmla="val 26986"/>
              <a:gd name="adj2" fmla="val 35181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1040" y="1832040"/>
            <a:ext cx="202716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dec" pos="2667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864"/>
                </a:solidFill>
                <a:latin typeface="Arial"/>
              </a:rPr>
              <a:t>1. Карта знаний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dec" pos="2667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181080"/>
                <a:tab algn="dec" pos="2667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Что, где и в каком виде хранится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181080"/>
                <a:tab algn="dec" pos="2667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Кем используется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181080"/>
                <a:tab algn="dec" pos="2667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Как организован доступ,безопасность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181080"/>
                <a:tab algn="dec" pos="2667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Карта Знаний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AS IS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92440" y="1832040"/>
            <a:ext cx="2016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2. Продукты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Систематизировать Продуктовый портфель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Создать систему продуктового обучения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91240" y="1832040"/>
            <a:ext cx="2016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3. Проектный опыт 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Разработать и внедрить методику управления производственной экспертизой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02280" y="1803240"/>
            <a:ext cx="20257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4. Эксперты 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Учет профессиональных компетенций сотрудников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Выявление экспертов в областях знаний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0120" y="3745080"/>
            <a:ext cx="8327880" cy="666720"/>
          </a:xfrm>
          <a:prstGeom prst="rect">
            <a:avLst/>
          </a:prstGeom>
          <a:solidFill>
            <a:srgbClr val="e6e6eb"/>
          </a:soli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7560" y="387036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Ключевые подсистемы СУЗ </a:t>
            </a:r>
            <a:r>
              <a:rPr b="1" lang="en-US" sz="1800" spc="-1" strike="noStrike">
                <a:solidFill>
                  <a:srgbClr val="ed1b2e"/>
                </a:solidFill>
                <a:latin typeface="Arial"/>
              </a:rPr>
              <a:t>(вторая очередь)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440" y="4678200"/>
            <a:ext cx="20350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5. Коммуникация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Поддержка сотрудников в поиске знаний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Пропаганда УЗ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Сообщество «Управление знаниями»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98920" y="4675320"/>
            <a:ext cx="2030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6. Сообщества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Создание в ключевых областях знаний сообществ профессионалов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05280" y="4684680"/>
            <a:ext cx="20163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7. Инновации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Выявление инновационных идей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Внедрение их в бизнес компании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29280" y="4681440"/>
            <a:ext cx="20163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8. Наставничество 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Разработать и внедрить систему наставничества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2368-3BDF-4E10-945F-1CD033FAE32D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3:02:31Z</dcterms:created>
  <dc:creator>Сапунцов</dc:creator>
  <dc:description/>
  <dc:language>en-US</dc:language>
  <cp:lastModifiedBy>User</cp:lastModifiedBy>
  <dcterms:modified xsi:type="dcterms:W3CDTF">2008-06-19T07:11:15Z</dcterms:modified>
  <cp:revision>652</cp:revision>
  <dc:subject/>
  <dc:title>Слайд 1</dc:title>
</cp:coreProperties>
</file>