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320" y="3962160"/>
            <a:ext cx="899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320" y="39621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0" y="39621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6520" y="129528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6720" y="129528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320" y="396216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16520" y="396216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6720" y="396216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320" y="39621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0" y="39621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320" y="3962160"/>
            <a:ext cx="899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6320" y="3962160"/>
            <a:ext cx="899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320" y="39621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3600" y="39621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16520" y="129528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6720" y="129528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6320" y="396216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16520" y="396216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6720" y="396216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39621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0" y="39621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0" y="129528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320" y="3962160"/>
            <a:ext cx="899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228600"/>
            <a:ext cx="8762760" cy="1066320"/>
            <a:chOff x="380880" y="228600"/>
            <a:chExt cx="8762760" cy="1066320"/>
          </a:xfrm>
        </p:grpSpPr>
        <p:grpSp>
          <p:nvGrpSpPr>
            <p:cNvPr id="1" name=""/>
            <p:cNvGrpSpPr/>
            <p:nvPr/>
          </p:nvGrpSpPr>
          <p:grpSpPr>
            <a:xfrm>
              <a:off x="663120" y="338040"/>
              <a:ext cx="691920" cy="480960"/>
              <a:chOff x="663120" y="338040"/>
              <a:chExt cx="691920" cy="480960"/>
            </a:xfrm>
          </p:grpSpPr>
          <p:sp>
            <p:nvSpPr>
              <p:cNvPr id="2" name=""/>
              <p:cNvSpPr/>
              <p:nvPr/>
            </p:nvSpPr>
            <p:spPr>
              <a:xfrm>
                <a:off x="663120" y="338040"/>
                <a:ext cx="425520" cy="4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35720" y="338040"/>
                <a:ext cx="319320" cy="480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83720" y="765720"/>
              <a:ext cx="717480" cy="480960"/>
              <a:chOff x="783720" y="765720"/>
              <a:chExt cx="717480" cy="480960"/>
            </a:xfrm>
          </p:grpSpPr>
          <p:sp>
            <p:nvSpPr>
              <p:cNvPr id="5" name=""/>
              <p:cNvSpPr/>
              <p:nvPr/>
            </p:nvSpPr>
            <p:spPr>
              <a:xfrm>
                <a:off x="783720" y="765720"/>
                <a:ext cx="410040" cy="4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2280" y="765720"/>
                <a:ext cx="358920" cy="480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380880" y="691560"/>
              <a:ext cx="545040" cy="42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98280" y="228600"/>
              <a:ext cx="306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8320" y="1061640"/>
              <a:ext cx="8455320" cy="5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</p:grpSp>
      <p:pic>
        <p:nvPicPr>
          <p:cNvPr id="10" name="MIPT" descr=""/>
          <p:cNvPicPr/>
          <p:nvPr/>
        </p:nvPicPr>
        <p:blipFill>
          <a:blip r:embed="rId2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75960" y="6477120"/>
            <a:ext cx="4190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hysics of Nonequilibrium Systems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1" name="MIPT" descr=""/>
          <p:cNvPicPr/>
          <p:nvPr/>
        </p:nvPicPr>
        <p:blipFill>
          <a:blip r:embed="rId2"/>
          <a:stretch/>
        </p:blipFill>
        <p:spPr>
          <a:xfrm>
            <a:off x="7537320" y="5105520"/>
            <a:ext cx="160668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yandsearch?p=12&amp;text=&#1076;&#1086;&#1084;&amp;img_url=http%3A%2F%2Fdoma20.ru%2Fpictures%2F0000%2F4118%2FP5100042_.jpg%3F1210750265&amp;rpt=simage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camellia.ru/prod/uzelok/i/s/uzelki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camellia.ru/prod/uzelok/i/s/uzelki.jpg" TargetMode="External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2&amp;text=&#1076;&#1086;&#1084;&amp;img_url=http%3A%2F%2Fdoma20.ru%2Fpictures%2F0000%2F4118%2FP5100042_.jpg%3F1210750265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yandsearch?p=8&amp;text=&#1076;&#1086;&#1084;&amp;img_url=http%3A%2F%2Fimg.avito.ru%2Fphotos%2F85%2F90%2F139085_440x330.jpg&amp;rpt=simage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hyperlink" Target="http://images.yandex.ru/yandsearch?p=7&amp;text=&#1082;&#1088;&#1077;&#1084;&#1083;&#1100;&amp;img_url=http%3A%2F%2Fwww.photohost.ru%2Ft%2F600%2F400%2F24946.jpg&amp;rpt=simage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yandex.ru/yandsearch?p=7&amp;text=&#1082;&#1088;&#1077;&#1084;&#1083;&#1100;&amp;img_url=http%3A%2F%2Fwww.photohost.ru%2Ft%2F600%2F400%2F24946.jpg&amp;rpt=simage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amellia.ru/prod/uzelok/i/s/uzelki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camellia.ru/prod/uzelok/i/s/uzelki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yandex.ru/yandsearch?p=7&amp;text=&#1082;&#1088;&#1077;&#1084;&#1083;&#1100;&amp;img_url=http%3A%2F%2Fwww.photohost.ru%2Ft%2F600%2F400%2F24946.jpg&amp;rpt=simag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ЭКСПЛИКАЦИЯ В РОДАХ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 ОСНОВНЫХ ПОНЯТИЙ СЕМИОТИКИ ДЛЯ ВОЗМОЖНОСТИ БОЛЕЕ ФОРМАЛЬНОЙ ИХ СИСТЕМАТИЗАЦИИ С ИСПОЛЬЗОВАНИЕМ ПРЕИМУЩЕСТВ ЭКСТЕНСИОНАЛЬНОГО ПОДХОДА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4920" y="3716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удентка 293 б группы Жила А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аучный руководител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Гараева Ю.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аучный консультант: доц., к.т.н. Капустян В.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04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гистерская диссертационная работа на тему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579132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МФТИ</a:t>
            </a:r>
            <a:endParaRPr b="0" lang="en-US" sz="12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Процессы означивания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6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4920" y="4038480"/>
            <a:ext cx="4267080" cy="1600200"/>
            <a:chOff x="304920" y="4038480"/>
            <a:chExt cx="4267080" cy="1600200"/>
          </a:xfrm>
        </p:grpSpPr>
        <p:sp>
          <p:nvSpPr>
            <p:cNvPr id="145" name=""/>
            <p:cNvSpPr/>
            <p:nvPr/>
          </p:nvSpPr>
          <p:spPr>
            <a:xfrm>
              <a:off x="304920" y="4038480"/>
              <a:ext cx="18288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4495680"/>
              <a:ext cx="1981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4876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28600" y="2590920"/>
            <a:ext cx="4267080" cy="1600200"/>
            <a:chOff x="228600" y="2590920"/>
            <a:chExt cx="4267080" cy="1600200"/>
          </a:xfrm>
        </p:grpSpPr>
        <p:sp>
          <p:nvSpPr>
            <p:cNvPr id="149" name=""/>
            <p:cNvSpPr/>
            <p:nvPr/>
          </p:nvSpPr>
          <p:spPr>
            <a:xfrm>
              <a:off x="228600" y="2590920"/>
              <a:ext cx="18288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14600" y="3048120"/>
              <a:ext cx="1981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34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28600" y="2286000"/>
            <a:ext cx="4267080" cy="1600200"/>
            <a:chOff x="228600" y="2286000"/>
            <a:chExt cx="4267080" cy="1600200"/>
          </a:xfrm>
        </p:grpSpPr>
        <p:sp>
          <p:nvSpPr>
            <p:cNvPr id="153" name=""/>
            <p:cNvSpPr/>
            <p:nvPr/>
          </p:nvSpPr>
          <p:spPr>
            <a:xfrm>
              <a:off x="228600" y="2286000"/>
              <a:ext cx="18288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4600" y="2743200"/>
              <a:ext cx="1981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740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52280" y="1752480"/>
            <a:ext cx="4267080" cy="1600200"/>
            <a:chOff x="152280" y="1752480"/>
            <a:chExt cx="4267080" cy="1600200"/>
          </a:xfrm>
        </p:grpSpPr>
        <p:sp>
          <p:nvSpPr>
            <p:cNvPr id="157" name=""/>
            <p:cNvSpPr/>
            <p:nvPr/>
          </p:nvSpPr>
          <p:spPr>
            <a:xfrm>
              <a:off x="152280" y="1752480"/>
              <a:ext cx="18288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38280" y="2209680"/>
              <a:ext cx="1981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1080" y="2590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86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ход процесса: полное многообразие пар образов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4864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ход процессов: множество выбранных пар «означаемый образ» - «означающий образ»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105520" y="3048120"/>
            <a:ext cx="3429000" cy="2350440"/>
            <a:chOff x="5105520" y="3048120"/>
            <a:chExt cx="3429000" cy="2350440"/>
          </a:xfrm>
        </p:grpSpPr>
        <p:grpSp>
          <p:nvGrpSpPr>
            <p:cNvPr id="163" name=""/>
            <p:cNvGrpSpPr/>
            <p:nvPr/>
          </p:nvGrpSpPr>
          <p:grpSpPr>
            <a:xfrm>
              <a:off x="5410440" y="3384360"/>
              <a:ext cx="2971440" cy="1294920"/>
              <a:chOff x="5410440" y="3384360"/>
              <a:chExt cx="2971440" cy="1294920"/>
            </a:xfrm>
          </p:grpSpPr>
          <p:sp>
            <p:nvSpPr>
              <p:cNvPr id="164" name=""/>
              <p:cNvSpPr/>
              <p:nvPr/>
            </p:nvSpPr>
            <p:spPr>
              <a:xfrm>
                <a:off x="5410440" y="3384360"/>
                <a:ext cx="1273680" cy="129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02360" y="3754080"/>
                <a:ext cx="1379520" cy="677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84120" y="4062240"/>
                <a:ext cx="31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105520" y="475596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Означаемый образ</a:t>
              </a:r>
              <a:endParaRPr b="0" lang="en-US" sz="18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0" y="30481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Означающий образ</a:t>
              </a:r>
              <a:endParaRPr b="0" lang="en-US" sz="18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105520" y="1981080"/>
            <a:ext cx="3429000" cy="2350800"/>
            <a:chOff x="5105520" y="1981080"/>
            <a:chExt cx="3429000" cy="2350800"/>
          </a:xfrm>
        </p:grpSpPr>
        <p:grpSp>
          <p:nvGrpSpPr>
            <p:cNvPr id="170" name=""/>
            <p:cNvGrpSpPr/>
            <p:nvPr/>
          </p:nvGrpSpPr>
          <p:grpSpPr>
            <a:xfrm>
              <a:off x="5410440" y="2317680"/>
              <a:ext cx="2971440" cy="1295280"/>
              <a:chOff x="5410440" y="2317680"/>
              <a:chExt cx="2971440" cy="12952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440" y="2317680"/>
                <a:ext cx="1273680" cy="129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002360" y="2687760"/>
                <a:ext cx="1379520" cy="678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84120" y="2995920"/>
                <a:ext cx="31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5105520" y="368928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Означаемый образ</a:t>
              </a:r>
              <a:endParaRPr b="0" lang="en-US" sz="18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0" y="198108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Означающий образ</a:t>
              </a:r>
              <a:endParaRPr b="0" lang="en-US" sz="18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105520" y="1219320"/>
            <a:ext cx="3429000" cy="2350440"/>
            <a:chOff x="5105520" y="1219320"/>
            <a:chExt cx="3429000" cy="2350440"/>
          </a:xfrm>
        </p:grpSpPr>
        <p:grpSp>
          <p:nvGrpSpPr>
            <p:cNvPr id="177" name=""/>
            <p:cNvGrpSpPr/>
            <p:nvPr/>
          </p:nvGrpSpPr>
          <p:grpSpPr>
            <a:xfrm>
              <a:off x="5410440" y="1555560"/>
              <a:ext cx="2971440" cy="1294920"/>
              <a:chOff x="5410440" y="1555560"/>
              <a:chExt cx="2971440" cy="1294920"/>
            </a:xfrm>
          </p:grpSpPr>
          <p:sp>
            <p:nvSpPr>
              <p:cNvPr id="178" name=""/>
              <p:cNvSpPr/>
              <p:nvPr/>
            </p:nvSpPr>
            <p:spPr>
              <a:xfrm>
                <a:off x="5410440" y="1555560"/>
                <a:ext cx="1273680" cy="129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002360" y="1925280"/>
                <a:ext cx="1379520" cy="677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84120" y="2233440"/>
                <a:ext cx="31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 Narrow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105520" y="292716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Означаемый образ</a:t>
              </a:r>
              <a:endParaRPr b="0" lang="en-US" sz="18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0" y="12193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Означающий образ</a:t>
              </a:r>
              <a:endParaRPr b="0" lang="en-US" sz="1800" spc="-1" strike="noStrike">
                <a:solidFill>
                  <a:srgbClr val="333399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Множество знаков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143000"/>
            <a:ext cx="21333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152388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676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ДОМ</a:t>
            </a:r>
            <a:endParaRPr b="0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188" name="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492800"/>
            <a:ext cx="1611360" cy="122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8672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1828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9696"/>
                </a:solidFill>
                <a:latin typeface="Arial"/>
              </a:rPr>
              <a:t>Дом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95944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значаемое – образ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59594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значающий образ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5943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значающее - - объект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1028880" y="4038480"/>
            <a:ext cx="213336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316224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3772080" y="441972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590544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198" name="uzelki" descr="Картинка 17 из 4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5280" y="45720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99" name="uzelki" descr="Картинка 17 из 4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57880" y="45720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00" name="дом" descr=""/>
          <p:cNvPicPr/>
          <p:nvPr/>
        </p:nvPicPr>
        <p:blipFill>
          <a:blip r:embed="rId8"/>
          <a:stretch/>
        </p:blipFill>
        <p:spPr>
          <a:xfrm>
            <a:off x="1219320" y="1676520"/>
            <a:ext cx="1752480" cy="814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90720" y="2514600"/>
            <a:ext cx="21333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289548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0481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</a:t>
            </a:r>
            <a:endParaRPr b="0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9696"/>
                </a:solidFill>
                <a:latin typeface="Arial"/>
              </a:rPr>
              <a:t>Дом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07" name="дом" descr=""/>
          <p:cNvPicPr/>
          <p:nvPr/>
        </p:nvPicPr>
        <p:blipFill>
          <a:blip r:embed="rId9"/>
          <a:stretch/>
        </p:blipFill>
        <p:spPr>
          <a:xfrm>
            <a:off x="1219320" y="3048120"/>
            <a:ext cx="17524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Множество пар «знак» - «означаемый объект»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1432080"/>
            <a:ext cx="21333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234648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81296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12" name="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352680"/>
            <a:ext cx="1447560" cy="1098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238880" y="234648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14" name="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057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дом" descr=""/>
          <p:cNvPicPr/>
          <p:nvPr/>
        </p:nvPicPr>
        <p:blipFill>
          <a:blip r:embed="rId5"/>
          <a:stretch/>
        </p:blipFill>
        <p:spPr>
          <a:xfrm>
            <a:off x="2590920" y="1965240"/>
            <a:ext cx="1752480" cy="814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66880" y="11430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значаемое – абстрактный образ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0666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означаемый объект – представитель абстрактного образа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971800"/>
            <a:ext cx="213372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8862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352680"/>
            <a:ext cx="21337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38862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22" name="дом" descr=""/>
          <p:cNvPicPr/>
          <p:nvPr/>
        </p:nvPicPr>
        <p:blipFill>
          <a:blip r:embed="rId6"/>
          <a:stretch/>
        </p:blipFill>
        <p:spPr>
          <a:xfrm>
            <a:off x="2514600" y="3505320"/>
            <a:ext cx="1752480" cy="814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4864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9696"/>
                </a:solidFill>
                <a:latin typeface="Arial"/>
              </a:rPr>
              <a:t>Дом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9696"/>
                </a:solidFill>
                <a:latin typeface="Arial"/>
              </a:rPr>
              <a:t>Дом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2133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ДОМ</a:t>
            </a:r>
            <a:endParaRPr b="0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7620120" y="35053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</a:t>
            </a:r>
            <a:endParaRPr b="0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76160" y="2362320"/>
            <a:ext cx="68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676160" y="3962520"/>
            <a:ext cx="6094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5029200"/>
            <a:ext cx="175248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5486400"/>
            <a:ext cx="99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5192640" y="5052960"/>
            <a:ext cx="1817640" cy="10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5181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ремль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7078680" y="5486400"/>
            <a:ext cx="38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9696"/>
                </a:solidFill>
                <a:latin typeface="Arial"/>
              </a:rPr>
              <a:t>кремль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35" name="i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43200" y="5105520"/>
            <a:ext cx="1406520" cy="1062000"/>
          </a:xfrm>
          <a:prstGeom prst="rect">
            <a:avLst/>
          </a:prstGeom>
          <a:ln w="0">
            <a:noFill/>
          </a:ln>
        </p:spPr>
      </p:pic>
      <p:pic>
        <p:nvPicPr>
          <p:cNvPr id="236" name="i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724280"/>
            <a:ext cx="1635120" cy="1235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514600" y="6095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Уникальное означаемое</a:t>
            </a:r>
            <a:endParaRPr b="0" lang="en-US" sz="2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58672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никальный означаемый объект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5638680"/>
            <a:ext cx="380880" cy="152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Множество уникальных знаков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1447920"/>
            <a:ext cx="21333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82880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45" name="uzelki" descr="Картинка 17 из 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9810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46" name="uzelki" descr="Картинка 17 из 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98108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495680" y="106668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Уникальное означающее</a:t>
            </a:r>
            <a:endParaRPr b="0" lang="en-US" sz="2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1066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никальный означающий объект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4495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396252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52" name="i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4114800"/>
            <a:ext cx="1218960" cy="920880"/>
          </a:xfrm>
          <a:prstGeom prst="rect">
            <a:avLst/>
          </a:prstGeom>
          <a:ln w="0">
            <a:noFill/>
          </a:ln>
        </p:spPr>
      </p:pic>
      <p:pic>
        <p:nvPicPr>
          <p:cNvPr id="253" name="i" descr=""/>
          <p:cNvPicPr/>
          <p:nvPr/>
        </p:nvPicPr>
        <p:blipFill>
          <a:blip r:embed="rId7"/>
          <a:stretch/>
        </p:blipFill>
        <p:spPr>
          <a:xfrm>
            <a:off x="7051680" y="3962520"/>
            <a:ext cx="1635120" cy="1234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676520" y="3505320"/>
            <a:ext cx="21333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41911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9696"/>
                </a:solidFill>
                <a:latin typeface="Arial"/>
              </a:rPr>
              <a:t>Столица России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56" name="i" descr=""/>
          <p:cNvPicPr/>
          <p:nvPr/>
        </p:nvPicPr>
        <p:blipFill>
          <a:blip r:embed="rId8"/>
          <a:stretch/>
        </p:blipFill>
        <p:spPr>
          <a:xfrm>
            <a:off x="2057400" y="1905120"/>
            <a:ext cx="14479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Множество знаков – экземпляров классов знаков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21932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1752480"/>
            <a:ext cx="60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121932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6705720" y="13716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ДОМ</a:t>
            </a:r>
            <a:endParaRPr b="0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1752480"/>
            <a:ext cx="60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9696"/>
                </a:solidFill>
                <a:latin typeface="Arial"/>
              </a:rPr>
              <a:t>Дом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64" name="дом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1752480" cy="814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3526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259092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27432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</a:t>
            </a:r>
            <a:endParaRPr b="0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9696"/>
                </a:solidFill>
                <a:latin typeface="Arial"/>
              </a:rPr>
              <a:t>Дом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70" name="дом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1752480" cy="814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352680" y="4359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382572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054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ремль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130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9696"/>
                </a:solidFill>
                <a:latin typeface="Arial"/>
              </a:rPr>
              <a:t>кремль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76" name="i" descr=""/>
          <p:cNvPicPr/>
          <p:nvPr/>
        </p:nvPicPr>
        <p:blipFill>
          <a:blip r:embed="rId3"/>
          <a:stretch/>
        </p:blipFill>
        <p:spPr>
          <a:xfrm>
            <a:off x="1676520" y="3854520"/>
            <a:ext cx="1295280" cy="977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581280" y="60958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лассообразующий означающий образ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579132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Экземпляр класса означающих объектов</a:t>
            </a:r>
            <a:endParaRPr b="0" lang="en-US" sz="2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259092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380988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5562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5029200"/>
            <a:ext cx="21333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5257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4a8"/>
                </a:solidFill>
                <a:latin typeface="Times New Roman"/>
              </a:rPr>
              <a:t>кремль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9696"/>
                </a:solidFill>
                <a:latin typeface="Arial"/>
              </a:rPr>
              <a:t>кремль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286" name="i" descr=""/>
          <p:cNvPicPr/>
          <p:nvPr/>
        </p:nvPicPr>
        <p:blipFill>
          <a:blip r:embed="rId4"/>
          <a:stretch/>
        </p:blipFill>
        <p:spPr>
          <a:xfrm>
            <a:off x="1676520" y="5057640"/>
            <a:ext cx="1295280" cy="978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371600" y="501336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Категории знаков Пирса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9" name="concept.icon.elephant" descr="icon&#10;concpet"/>
          <p:cNvPicPr/>
          <p:nvPr/>
        </p:nvPicPr>
        <p:blipFill>
          <a:blip r:embed="rId1"/>
          <a:stretch/>
        </p:blipFill>
        <p:spPr>
          <a:xfrm>
            <a:off x="609480" y="1523880"/>
            <a:ext cx="3429000" cy="1820880"/>
          </a:xfrm>
          <a:prstGeom prst="rect">
            <a:avLst/>
          </a:prstGeom>
          <a:ln w="0">
            <a:noFill/>
          </a:ln>
        </p:spPr>
      </p:pic>
      <p:pic>
        <p:nvPicPr>
          <p:cNvPr id="290" name="concept.symbol.elephant" descr="elephant&#10;as symbol"/>
          <p:cNvPicPr/>
          <p:nvPr/>
        </p:nvPicPr>
        <p:blipFill>
          <a:blip r:embed="rId2"/>
          <a:stretch/>
        </p:blipFill>
        <p:spPr>
          <a:xfrm>
            <a:off x="5181480" y="1600200"/>
            <a:ext cx="3200400" cy="1698480"/>
          </a:xfrm>
          <a:prstGeom prst="rect">
            <a:avLst/>
          </a:prstGeom>
          <a:ln w="0">
            <a:noFill/>
          </a:ln>
        </p:spPr>
      </p:pic>
      <p:pic>
        <p:nvPicPr>
          <p:cNvPr id="291" name="concept.index.bread" descr="smell of&#10;bread"/>
          <p:cNvPicPr/>
          <p:nvPr/>
        </p:nvPicPr>
        <p:blipFill>
          <a:blip r:embed="rId3"/>
          <a:stretch/>
        </p:blipFill>
        <p:spPr>
          <a:xfrm>
            <a:off x="2819520" y="4114800"/>
            <a:ext cx="3429000" cy="1700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09480" y="3505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конические знаки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505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ьные знаки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5943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дексные знаки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Результаты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125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Даны экстенсиональные определения  некоторым наиболее значимым явлениям предметной области «семиотика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Проведено различение разных понятий, определявшихся прежде одним или сходными интенсиональными определени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Даны экстенсиональные определения явления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не рассматривавшимся прежде с точки зрения семиотик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основаны слабо рассмотренные или не упоминавшиеся прежде свойства  некоторых понят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51920" y="12193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ЛАГОДАРЮ ЗА ВНИМАНИЕ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Цель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28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Ц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елью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данной работы является экспликация в родах структур основных понятий и соответствующих терминов и определений семиотики для возможности более формальной их систематизации с использованием преимуществ экстенсионального подхода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Задачи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провести исследование предметной обла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2)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построить концептуальную схему «Основные знаковые ситуации»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описать основные знаковые ситуации, наиболее часто встречающиеся у авторов работ по семиотике, и новые, выведенные на основе используемого экстенсионального подхо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)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сравнить  получившиеся определения этих понятий и явлений с традиционны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Модель знака Г.П. Мельникова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1728720"/>
            <a:ext cx="73152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Основные ограничения и положения работы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 работе принят материалистический подхо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 модель не вводится время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 рассмотрение не принимаются сложные познавательные процессы обучения, изменения состояния знаний об объекте и пр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Базисные множества и ограничения на них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762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АЗИСНЫЕ МНОЖЕСТВА: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  -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множество материальных объект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множество субъектов коммуникативной групп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множество всевозможных значений всевозможных свойств, присущих объект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ГРАНИЧЕНИЯ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в качестве объектов  рассматриваются только объекты материального мира, доступные в ощущения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все субъекты имеют одинаковый доступ ко всем объектам, одинаковые возможности восприятия объек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субъекты не рассматриваются как объекты, доступные к  означиван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ОБЪЕКТЫ И ИХ СВОЙСТВА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полные%20определители_new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8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Субъективированные образы объектов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724040"/>
            <a:ext cx="7391160" cy="4448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1752480"/>
            <a:ext cx="7924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9119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а объектов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85144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о значений свойств некоторого объекта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85144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а узуальных значений свойств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476280" cy="98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143000"/>
            <a:ext cx="22096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219320"/>
            <a:ext cx="15242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143000"/>
            <a:ext cx="28958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4251240" y="60404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1143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рашный, пугающий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1447920"/>
            <a:ext cx="2590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523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красивый, уродливый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743200" y="1295280"/>
            <a:ext cx="609480" cy="763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362320" y="1904760"/>
            <a:ext cx="144756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1143000"/>
            <a:ext cx="21337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828800"/>
            <a:ext cx="5105520" cy="330120"/>
          </a:xfrm>
          <a:custGeom>
            <a:avLst/>
            <a:gdLst/>
            <a:ahLst/>
            <a:rect l="l" t="t" r="r" b="b"/>
            <a:pathLst>
              <a:path w="3216" h="208">
                <a:moveTo>
                  <a:pt x="0" y="0"/>
                </a:moveTo>
                <a:cubicBezTo>
                  <a:pt x="524" y="88"/>
                  <a:pt x="1048" y="176"/>
                  <a:pt x="1584" y="192"/>
                </a:cubicBezTo>
                <a:cubicBezTo>
                  <a:pt x="2120" y="208"/>
                  <a:pt x="2944" y="112"/>
                  <a:pt x="3216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1371600"/>
            <a:ext cx="1752480" cy="609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143000"/>
            <a:ext cx="22100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спринимаемые значения «объективных» свойств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Субъективированные абстрактные образы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6423120" cy="3986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5800" y="3429000"/>
            <a:ext cx="2971800" cy="1447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8098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09880"/>
            <a:ext cx="304920" cy="7621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886200"/>
            <a:ext cx="380880" cy="6094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3962520"/>
            <a:ext cx="304920" cy="6858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2:36:34Z</dcterms:created>
  <dc:creator>sstar</dc:creator>
  <dc:description/>
  <dc:language>en-US</dc:language>
  <cp:lastModifiedBy>Элис</cp:lastModifiedBy>
  <dcterms:modified xsi:type="dcterms:W3CDTF">2008-06-10T09:03:46Z</dcterms:modified>
  <cp:revision>777</cp:revision>
  <dc:subject/>
  <dc:title>DESTRUCTION OF METHANE BY NANOSECOND HIGH-VOLTAGE  DISCHARGE</dc:title>
</cp:coreProperties>
</file>