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166-5A4B-43B3-89B7-1420724F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666A-0A58-420D-AA64-42962C99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E3C-42AD-4EB1-9D65-DBAFAD5A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185-2082-48D1-9020-B3BA142D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036E-1072-49B7-936B-F200B9F5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5E2-D848-47F1-8C90-8AADD9C3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5880-8351-4F58-A7DD-EA6150B5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ADDC-7466-4BF6-9454-9C65130D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C486-6DA1-4988-AB56-DA45F25C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7153-3DB1-4DD8-8ADE-0AB6A206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FC76-8A37-4F3D-B978-7B142D88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648-C1B0-4E89-A4D8-BC830996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B23-90C6-40B7-A03A-BD8E0028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AE89-31A5-4AF6-9353-486A4E69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1C07-F2D2-480B-9C02-055ADED9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C5F9-4814-47AE-8F74-8B7616AE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5162-4144-43A9-BE4E-FAB1D60B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3F0D-0B81-4F30-8BA4-0E2F294C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367-A437-48B8-981B-142A4574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1E4-1659-4FD3-9D2F-8E8BA0F1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905-21C3-484F-93AD-0444C364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84B-23EA-4378-95EE-D5830785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A554-FC5F-4454-AB6A-0BAB7F0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2B2A-3168-4637-8481-D8CC5AEA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333C-E542-46AE-8B44-E5231F272C9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B8F8-EA7E-4ABC-8990-A406AB437B9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6183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Разработка и исследование динамической модели хода реализации IT-проекта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агистерская диссер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яев К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6021360"/>
            <a:ext cx="45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ководитель Рыков В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зульта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пределены соотношения параметров проекта, которые определяют успешность реализации прое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рамках модели получены иллюстрации классических качественных закономерностей в реализации IT-проект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демонстрирована возможность качественной оценки влияния рисков на реализуемость проекта в рамках разработанной модел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пробация рабо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публиковано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еляев К.А. Разработка аналитической модели проекта // Международная конференция MEDIAS-200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еляев К.А. Аналитическая модель проекта // СГИ СОВНЕТ. – 200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Готовятся к печати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еляев К.А., Беляев И.П., Рыков В.В. Аналитическая модель проекта // Проблемы управления. – 200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пасибо за вним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635280" y="2060640"/>
            <a:ext cx="210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Традиционные модели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0000" y="987480"/>
            <a:ext cx="6264000" cy="47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640" y="5805360"/>
            <a:ext cx="792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Михеев В.Н. "Третья волна": живой менеджмент проектов (Lively PM) // Открытые семинары Московского Отделения PMI. – 200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ект - непрерывный процесс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76360"/>
          <a:ext cx="813744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76360"/>
                    <a:ext cx="813744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ект – динамическая систе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3280" y="1685880"/>
            <a:ext cx="4762440" cy="419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2091600">
            <a:off x="3060360" y="211752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2117000">
            <a:off x="5508360" y="3917520"/>
            <a:ext cx="936360" cy="216000"/>
          </a:xfrm>
          <a:prstGeom prst="rightArrow">
            <a:avLst>
              <a:gd name="adj1" fmla="val 50000"/>
              <a:gd name="adj2" fmla="val 10837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6200" y="12682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ектор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4221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пешная 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Цели и задач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строение и исследование аналитической модели IT-про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азработка аналитической модели прое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оверка адекватности полученной модели на примере классических работ в области управления разработкой программного обеспе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2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следование модел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инамическая модел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835280" y="1125360"/>
          <a:ext cx="35287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35287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0" y="28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35040" y="2457360"/>
          <a:ext cx="314496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2457360"/>
                    <a:ext cx="31449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5292720" y="2371680"/>
          <a:ext cx="2638440" cy="135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371680"/>
                    <a:ext cx="263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 rot="7044000">
            <a:off x="3363840" y="224604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8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258920" y="4565520"/>
          <a:ext cx="6432480" cy="11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565520"/>
                    <a:ext cx="643248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 rot="14556000">
            <a:off x="4912560" y="2246040"/>
            <a:ext cx="755640" cy="215640"/>
          </a:xfrm>
          <a:prstGeom prst="rightArrow">
            <a:avLst>
              <a:gd name="adj1" fmla="val 50000"/>
              <a:gd name="adj2" fmla="val 8760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7044000">
            <a:off x="4914720" y="411948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rot="14556000">
            <a:off x="3363480" y="4117320"/>
            <a:ext cx="755640" cy="216360"/>
          </a:xfrm>
          <a:prstGeom prst="rightArrow">
            <a:avLst>
              <a:gd name="adj1" fmla="val 50000"/>
              <a:gd name="adj2" fmla="val 8731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тоимость проек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92440" y="1322280"/>
            <a:ext cx="555912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ектные рабо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47720" y="1427040"/>
            <a:ext cx="5848560" cy="437832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5610960" y="1268280"/>
            <a:ext cx="2777400" cy="938520"/>
            <a:chOff x="5610960" y="1268280"/>
            <a:chExt cx="2777400" cy="938520"/>
          </a:xfrm>
        </p:grpSpPr>
        <p:sp>
          <p:nvSpPr>
            <p:cNvPr id="125" name=""/>
            <p:cNvSpPr/>
            <p:nvPr/>
          </p:nvSpPr>
          <p:spPr>
            <a:xfrm rot="8085600">
              <a:off x="5550120" y="1815120"/>
              <a:ext cx="755640" cy="144720"/>
            </a:xfrm>
            <a:prstGeom prst="rightArrow">
              <a:avLst>
                <a:gd name="adj1" fmla="val 50000"/>
                <a:gd name="adj2" fmla="val 130535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72360" y="12682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 Брукса</a:t>
              </a:r>
              <a:r>
                <a:rPr b="0" lang="en-US" sz="1800" spc="-1" strike="noStrike">
                  <a:solidFill>
                    <a:srgbClr val="cc99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ис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5720" y="1322280"/>
            <a:ext cx="563076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5:50:05Z</dcterms:created>
  <dc:creator>user</dc:creator>
  <dc:description/>
  <dc:language>en-US</dc:language>
  <cp:lastModifiedBy>User</cp:lastModifiedBy>
  <dcterms:modified xsi:type="dcterms:W3CDTF">2009-06-02T15:14:15Z</dcterms:modified>
  <cp:revision>21</cp:revision>
  <dc:subject/>
  <dc:title>Исследование проекта методами бифуркационного анализа</dc:title>
</cp:coreProperties>
</file>