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jpeg" ContentType="image/jpe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735-9B6C-4489-8AB2-57DAF544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E879-1E33-4957-B396-16313A26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9C2-E1C2-4D39-8E70-06DA3B62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D5C-55E0-41A8-A015-6880F9A4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A37D-B635-4CA4-9E4D-D5234788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B4F76-7B55-442E-BF7E-F5C93272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D979-4E5C-4660-9135-63230BAA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9112-35E7-443F-9DDA-5CCF2086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7ECB-A893-4C89-94BF-FD849374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3C6D-B0D0-4D4A-BFEE-966572A5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85DC-E8C3-4A54-B804-EECCDF16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07A-1F95-4C71-850B-4100762E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EA5E-6F94-4FC6-8523-68AE888D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1EA2-2A9F-4186-A71D-739E8B9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F12D-FD28-44D5-9225-678C0726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A41F-A236-4456-9323-8BA7CCF1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FA9A-34C6-4359-93EC-900D2FCC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B72-F834-41B1-B436-AB24CB62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20C-87A1-4E82-8E01-A5343315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5C7C-B161-444C-AF86-C50B89E7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B187-49CF-4D8B-B0D0-2152E0A0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E9D-9A93-47C0-B87D-1F98C22C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3E05-00D0-4978-A054-D3775DFB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564-5380-4D89-AADD-642F817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28C2-A58F-4936-BECB-3FD38431BA6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8948-82BE-43F0-87D8-D37AB7AACCB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6183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Аналитическая модель проекта</a:t>
            </a: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яев Констан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Ф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43640" y="6021360"/>
            <a:ext cx="24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ГИ СОВ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Традиционные модели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40000" y="987480"/>
            <a:ext cx="6264000" cy="4724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5640" y="5805360"/>
            <a:ext cx="792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* Михеев В.Н. "Третья волна": живой менеджмент проектов (Lively PM) // Открытые семинары Московского Отделения PMI. – 2007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ект - непрерывный процесс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95280" y="1476360"/>
          <a:ext cx="813744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76360"/>
                    <a:ext cx="813744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ект – динамическая систе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03280" y="1685880"/>
            <a:ext cx="4762440" cy="4191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2091600">
            <a:off x="3060360" y="2117520"/>
            <a:ext cx="936720" cy="215640"/>
          </a:xfrm>
          <a:prstGeom prst="rightArrow">
            <a:avLst>
              <a:gd name="adj1" fmla="val 50000"/>
              <a:gd name="adj2" fmla="val 10859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2117000">
            <a:off x="5508360" y="3917520"/>
            <a:ext cx="936360" cy="216000"/>
          </a:xfrm>
          <a:prstGeom prst="rightArrow">
            <a:avLst>
              <a:gd name="adj1" fmla="val 50000"/>
              <a:gd name="adj2" fmla="val 10837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6200" y="126828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аектория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4221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пешная реал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инамическая модел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97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835280" y="1125360"/>
          <a:ext cx="3528720" cy="9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3528720" cy="9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0" y="28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35040" y="2457360"/>
          <a:ext cx="3144960" cy="119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2457360"/>
                    <a:ext cx="314496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5292720" y="2371680"/>
          <a:ext cx="2638440" cy="135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92720" y="2371680"/>
                    <a:ext cx="263844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 rot="7044000">
            <a:off x="3363840" y="2246040"/>
            <a:ext cx="755640" cy="216000"/>
          </a:xfrm>
          <a:prstGeom prst="rightArrow">
            <a:avLst>
              <a:gd name="adj1" fmla="val 50000"/>
              <a:gd name="adj2" fmla="val 8745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8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58920" y="4565520"/>
          <a:ext cx="6432480" cy="11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58920" y="4565520"/>
                    <a:ext cx="643248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H="1" rot="14556000">
            <a:off x="4912560" y="2246040"/>
            <a:ext cx="755640" cy="215640"/>
          </a:xfrm>
          <a:prstGeom prst="rightArrow">
            <a:avLst>
              <a:gd name="adj1" fmla="val 50000"/>
              <a:gd name="adj2" fmla="val 8760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7044000">
            <a:off x="4914720" y="4119480"/>
            <a:ext cx="755640" cy="216000"/>
          </a:xfrm>
          <a:prstGeom prst="rightArrow">
            <a:avLst>
              <a:gd name="adj1" fmla="val 50000"/>
              <a:gd name="adj2" fmla="val 8745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rot="14556000">
            <a:off x="3363480" y="4117320"/>
            <a:ext cx="755640" cy="216360"/>
          </a:xfrm>
          <a:prstGeom prst="rightArrow">
            <a:avLst>
              <a:gd name="adj1" fmla="val 50000"/>
              <a:gd name="adj2" fmla="val 87313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тоимость проек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440" y="1322280"/>
            <a:ext cx="555912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ектные рабо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47720" y="1427040"/>
            <a:ext cx="5848560" cy="437832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5610960" y="1268280"/>
            <a:ext cx="2777400" cy="938520"/>
            <a:chOff x="5610960" y="1268280"/>
            <a:chExt cx="2777400" cy="938520"/>
          </a:xfrm>
        </p:grpSpPr>
        <p:sp>
          <p:nvSpPr>
            <p:cNvPr id="123" name=""/>
            <p:cNvSpPr/>
            <p:nvPr/>
          </p:nvSpPr>
          <p:spPr>
            <a:xfrm rot="8085600">
              <a:off x="5550120" y="1815120"/>
              <a:ext cx="755640" cy="144720"/>
            </a:xfrm>
            <a:prstGeom prst="rightArrow">
              <a:avLst>
                <a:gd name="adj1" fmla="val 50000"/>
                <a:gd name="adj2" fmla="val 130535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72360" y="12682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он Брукса</a:t>
              </a:r>
              <a:r>
                <a:rPr b="0" lang="en-US" sz="1800" spc="-1" strike="noStrike">
                  <a:solidFill>
                    <a:srgbClr val="cc99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ис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55720" y="1322280"/>
            <a:ext cx="563076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пасибо за вним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35280" y="2060640"/>
            <a:ext cx="210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5:50:05Z</dcterms:created>
  <dc:creator>user</dc:creator>
  <dc:description/>
  <dc:language>en-US</dc:language>
  <cp:lastModifiedBy>User</cp:lastModifiedBy>
  <dcterms:modified xsi:type="dcterms:W3CDTF">2009-06-02T14:39:51Z</dcterms:modified>
  <cp:revision>17</cp:revision>
  <dc:subject/>
  <dc:title>Исследование проекта методами бифуркационного анализа</dc:title>
</cp:coreProperties>
</file>