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EFA-7CA2-4E77-AB89-118F2E2F35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коллег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моем докладе речь пойдет о задаче применения систем основанных на знаниях для тематического поиска, решением которой я занимаюсь под руководством Андрея Устюжан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реализация рассматриваемого подхода позволило оценить такой важный параметр поисковых систем, как время поиска. Время поиска является одним из слабых мест интеллектуальных поисковых системы и является платой за качество результатов поиска. Согласно теоретической оценке сложность поиска в предложенном подход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На графике мы видим подтверждение этой оценки. Из представленных графиков видно, что реализованная мною система осуществляет поиск быстрее, чем составные запросы и практически не уступает многотабличным запросам. При этом экспертная система позволяет строить более сложные логические выводы и выполнять более сложные и выразительные запросы, чем составны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росы, которые в свою очередь по этим же показателям превосходят многотабличные запросы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с аналогичным функционал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f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агающим для каждого произведения список похожих, показало что около 40% композиций похожих по мнению реализованной системой, похожи и по мнени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f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Учитывая субъективность критерия «похож на..»  можно сделать вывод, что качество поиска в реализованной системе не хуж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выполнения дипломной работы мною были решены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а возможность применения экспертных систем для тематического поис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ный метод дает возможность создавать поисковые системы, с использованием интеллектуальных средств, а также с использованием новых методов представления знаний и обработки запросов при поиске необходимых данных. Позволяет точно и эффективно описывать семантику данных для некоторой предметной области и решать проблему несовместимости и противоречивости по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роена действующая поисковая система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ирующая применимость приведенного подхода для разработки  систем тематического по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и у любой технологии, у экспертных систем есть ряд недостатков. Так, например экспертные системы не способны запоминать принятые решения и использовать их для решения аналогичных задач. Другим слабым местом является трудоемкость извлечения и формализации знаний для заданной предметной области. Эти проблемы мы планируем рассмотреть в будущих исслед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ачестве направлений дальнейшего развития мы также  рассматрив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естественного языка для формирования запросов к поисков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ширение области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вышение качества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ьность данной задачи обусловлена, тем что согласно опросу пользователей Интернет более половины общего числа пользователей используют системы поиска практически каждый день, а для более чем четверти поиск информации связан с профессиональной деятельностью. В связи с быстрым ростом объема информационных ресурсов доступных одному человеку, для поиска необходимой информации требуются все более новые и совершенные поисковые средства позволяющие затратить при этом минимум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иболее распространенный вид поиска – это поиск по ключевым словам с различными видами индексирования и статистического анализа текстов. Данный вид поиска все меньше и меньше удовлетворяет запросам пользователей и постепенно замещается поиском с использованием смыслового содержания слов и словосочетаний, а также морфологического и синтаксического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чень часто пользователей интересует поиск информации в рамках определенной предметной области, для этих целей широко используется ограничение области поиска указанием ресурсов для которых производится индексирование и поис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оследнее время появилось новое направление решения задачи семантического и тематического поиска, связанное с использованием онтологии предметной области. Исследованию и развитию этого направления и посвящена данн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данном рисунке схематично представлена основная идея предложенного подхода. Рассматривается некоторая предметная область. В рамках проведенного исследования не было выявлено каких-либо ограничений на предметную область, поэтому далее будем считать ее произвольной. Для этой предметной области строится онтология, описывающая объекты их свойства и отношения между ними. Далее формализованные знания представляются в виде набора правил, формирующих базу знаний экспертной системы, которая использует эти знания для ответа на запросы пользова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рактического исследования, описываемого в данной работе подхода к решению задачи семантического поиска, мною была реализована экспертная система, основанная на правилах, выполняющая поиск мультимедиа объектов похожих на объект запрашиваемый пользов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лизованная система состоит из трех основных ча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дуль отвечающий за получение информации о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дуль представляющий полученную информацию в виде правил, и объединяющий их в баз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дуль использующий базу знаний для по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источников информации о музыкальных произведениях и их исполнителях я использов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ги, хранящие информацию о жанре, альбоме и исполнителе для музыкального произведения. Эти метаданные были использованы при построении прототипа поиск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айновые базы данны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musi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f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х я для каждого исполнителя получал информацию о том какие исполнители связаны с ним заданными отношениями похожести. А также для каждого исполнителя его лучшую композицию. Эти данные использовались для построения базы знаний во второй версии поисков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ставления знаний и о предметной области и построения базы знаний я воспользовался правилами следующих двух в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сть исполнитель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то исполнитель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вязан с ним отношением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сть исполнитель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то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его лучше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для каждого исполнителя в базе знаний содержится не более одного правила для каждого типа отношений. Здесь же представлен пример этих правил, написанных 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использовался как инструментальное средство для построения эксперт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7DF-EEBF-49E4-A122-61C26C9F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C66-C0BE-4445-8936-3358E91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0E2-E8E2-40FB-9C8F-776D580F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A56-2AD2-45C9-90F1-D3BBC08A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CEA2-7855-46B4-98C0-69FC2DF1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7A9A-8687-484A-AD13-142276A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DCB-1979-47A0-87FC-122F787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9249-4A4E-43F7-809E-8056A52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2158-4980-4BAA-86EE-CF11B1A9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CFF-7D36-457C-A075-CE99795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AAB-1161-49B0-B9C7-024F480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27A-21D2-4831-8DDE-3CB4CF4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EC8-23F6-49F8-BF5E-995639D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D66-3857-421D-B4AE-5286C41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A908-87D4-4B76-AF7D-F244771D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857-48CB-47FD-B8DB-143D8779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1EA8-8DA1-4C41-8C18-A5F53EC9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095-D7EA-4217-A840-45331EFD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4E9-E3D8-49DE-89C3-2F187EA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6FD-B25A-4A9C-AFCD-43D5E33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3E0-599F-4A40-94F6-8094C94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B91-CF21-4232-A2A8-5F7A97E5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1B7-B084-4D1C-A9EF-718BA10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B63-E396-498B-BA1E-06536A3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F12-B31C-40FF-95A1-37404B86C1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1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564-ABC8-4361-A4C0-D69E172635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Применение систем основанных на знаниях для тематического поиска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79640" y="3212640"/>
            <a:ext cx="6478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нарский П.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.ф.-м.н. Устюжанин А.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365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ий физико-технический институт (государственный университ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федра информатики, Москва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Преимущества предложенного подход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5640" y="1820880"/>
            <a:ext cx="748836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B12-371D-42E1-8E6C-C74302A25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525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следована возможность применения экспертных систем для тематического поис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троена действующая поисковая систем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63520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EE3-4DD0-48EF-8CCD-BA9F100DD2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Направления дальнейшего разви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поминание экспертной системой принятых реше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ормирование запросов на естественном язы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ширение области применим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вышение качества по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A64-0645-46CC-BEC1-1B1CCB768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1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Актуальность задач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олее 60% пользователей интернет пользуются поиском практически каждый ден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ля более 25% пользователей поиск связан с профессиональной деятельность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требность получать необходимую информацию, затрачивая минимум ресурс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566-B6D4-42FB-95F9-0E1999059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уществующие подходы  для поиска информ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иск по ключевым слов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спользование смыслового содержания слов, морфологического и синтаксического анали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граничение области по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вое направлени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спользование онтологий для описания предметной обла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77E-00F7-4759-A632-013CFD7452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иск с использованием экспертных систем и онтолог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3226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ED7-3D62-4907-B831-56A353CD2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Подзадач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еоретическое исследование применимости экспертных систем и представления знаний в виде проду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еализация предложенного мето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ыбор предметной област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бор и формализация информации о предметной обла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строение базы знаний из собранных дан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еализация приложения, использующего базу знаний для тематического поис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00B-D6EE-41BF-B344-1FCCAA1F50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Пример реализации: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300400" y="1752480"/>
            <a:ext cx="4533840" cy="4267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268360" y="1700280"/>
            <a:ext cx="4534200" cy="4267080"/>
            <a:chOff x="2268360" y="1700280"/>
            <a:chExt cx="4534200" cy="426708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2268360" y="1700280"/>
              <a:ext cx="45342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25480" y="5014800"/>
              <a:ext cx="1943280" cy="79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11360" y="5243400"/>
              <a:ext cx="217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точник информации о предметн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82680" y="3986280"/>
              <a:ext cx="1028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54080" y="3932280"/>
              <a:ext cx="148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лучен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09200" y="2996280"/>
              <a:ext cx="21718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2760" y="2957400"/>
              <a:ext cx="2629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едставление полученной информации в виде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68E-0265-4556-8B06-20E8B2685D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лучение информации о предметной обла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данные из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3v-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г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жан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льб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полн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-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сурсы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music.com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stfm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полнитель похожий на заданног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учшая песня исполни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492-A0AF-4985-9CE9-3BF3E57494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Построение базы знани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28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пользуемые прави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есть исполнитель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, то исполнитель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н с ним отношением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 defrule the-similar-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(artist (name "Metallica") {round &lt; 3 } ( type "similar") (sequence ?sequence) 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(not (artist (name "Slayer")  )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=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(assert (artist (name "Slayer") (type "similar")  (round (+ ?round 1 )) (sequence (str-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cat ?sequence "---&gt;" Slayer )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есть исполнитель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, то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лучшее произвед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 defrule the-best-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rtist (name "Metallica") (type ?type) (round ?round) (sequence ?sequence) 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=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(assert (song (name "Escape") (album "Ride the Lightning") (type ?type) (ro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?round) (sequence ?sequence) )) 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E6D-A380-4E17-8F1E-A34CEDEC8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Преимущества предложенного подход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мулирование механизма мышления человека-эксперта применительно к решению задач в данной проблемной обла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ибкость и выразительность поисковых запро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дульное хранение правил и их синтаксическая независ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ение принятого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войств и знаний специфичных для предметной об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E9F-DAE3-4715-9712-871A659FF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20:42Z</dcterms:created>
  <dc:creator>Pavel</dc:creator>
  <dc:description/>
  <dc:language>en-US</dc:language>
  <cp:lastModifiedBy>Your User Name</cp:lastModifiedBy>
  <dcterms:modified xsi:type="dcterms:W3CDTF">2008-06-19T11:01:13Z</dcterms:modified>
  <cp:revision>25</cp:revision>
  <dc:subject/>
  <dc:title>Применение систем основанных на знаниях для тематического поиска</dc:title>
</cp:coreProperties>
</file>