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47C1-2B61-4F6A-948C-71896686EB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41EB-C06F-4269-8660-D749C7354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343B-7222-4378-9B0B-B70FE9E258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1207-D54D-43AD-B224-650D27B927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7DDD-202C-4F29-8EF4-DD5B1201D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F75C-3C34-48B9-84F1-D0B8E00C5B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AE72-88A8-45A9-8C90-3147957A0A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6B32-ACD1-44AE-AFF1-47A8773DB3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CF05-ED2C-4512-96B4-E2DED1ED1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1A05-4B36-4FA3-887D-65F39EEA89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5A44-F82F-4DA4-9CCF-57B6F1AE5D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F86E-64B3-4C59-A9DB-08924F2D04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AEC7-A5DD-40A5-A0EB-E16993BAE0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A09F-29D5-4180-ADDB-321AFBBD0C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F1E8-77DA-4507-B1F9-E877694C94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FB42-4654-4F95-8012-26A2665FB9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F51-5BA0-4666-9E7D-70346FBB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418-8340-4FED-9953-06BDD692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DF7-036E-4291-97E8-50DDDB7D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2DC-6326-417F-8039-5679C59E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8BF2-C1DF-4C18-BA27-FFD46C1B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5E42-9868-48D6-A286-6870BC97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36A8-5423-4A6A-AD75-E6CA99ED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3E0A-72CB-45FB-9099-8E272C90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1795-E583-440B-97A0-DAFAE468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F206-2CB9-454F-8E2A-C54C5161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0FF3-8870-49B4-A88B-D4777C68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383-C648-43CD-A5EF-933C5AA9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2EC8-801F-4B87-889D-E0209262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8596-7BA6-4997-8F06-AEADE9E8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1555-7320-4EF1-841A-FF72CC80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6627-7CC0-41B0-8F65-E1F393BD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A948-1CAE-4793-9894-035BBC25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D7A5-89B5-4FC7-B709-E3393C13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A1873-EC48-498C-A220-5D5F20C2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F222D-C17C-4677-B020-7CFA2A03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F872-CEFD-4D1A-82BB-C32AC177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B53AD-FC1A-480E-8C69-C0CE9CB5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B37-BF12-448E-869B-305A1A6C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8130C-4107-45BA-9BF6-B2FDD47A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8B4F4-F83A-44A8-9F09-76B23903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67D69-E595-40F8-8226-959200EB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606A1-C9D8-468F-922B-21FC202E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27CB-812D-4BBC-967F-AF2B9FCE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B6D1-2963-4FA6-93D9-304F5548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5547B-2252-4EBE-902F-2AD855BB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E97AF-4914-4ED6-8EA5-8C68C033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C7F11-8CCA-4A5B-A1F4-9D076139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C9C78-5E98-40DC-8CFF-15B53E51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B09-541E-4E06-BFFA-6CA0D6FE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C6F4B-07E5-4860-B8D3-34286C80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E2E47-3581-44E9-88D6-779AE66B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1CF0B-DA05-4EE1-8836-0275FE3F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9B56C-3CAE-4CBC-9912-1845C4F9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485FC-E286-42EB-9151-51AB3EA7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0E813-5E67-4E4A-A895-3A58A95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17409-DE3A-4544-A205-66A36EED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728AB-00E0-480E-BB66-E006D7CA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E8686-1AC6-484D-9CEA-4D755CE3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A194E-AB9D-4FAE-92D5-762B9130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875F-AF23-4368-A1A6-5B3D65DC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A4189-A0DC-43B5-BA9D-AF289846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90AD2-F8DB-436D-BD3C-0DD3FC0C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DB47D-F62D-474B-9235-9C73B699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7E914-3C09-4A68-B00D-FEDEE0F5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7D5D7-697A-48F4-976B-91CB919B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621F5-EE60-4A21-B668-1D617563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19FB0-4611-4795-B260-22D94C57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3CEC2-4BD2-413F-AFDF-2C935F96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D2C9A-71C0-4086-B739-52089343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6C437-7DA5-4B04-B33C-7E02FA8C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552-A405-4240-A5DE-6524F3FA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F2CC5-A297-4E6F-9154-C0A4773B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AF98D-7241-4A27-9C30-97540EFE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29806-4964-4264-A636-6FC5D480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82D3F-323E-459A-91D4-DE1144FB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16C68-ACC6-4B4F-A782-70B445F0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340B6-4CF3-4CFE-97CB-A3DDE786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8F9B6-F612-449F-ACFB-213FCC59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01B84-83FF-4ED8-9BF4-C815301C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C3EDF-D29C-43E8-801D-2E65870D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B7B87-1FB0-4101-8B5E-E147A4FD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747-D697-408C-8C31-D67AEF54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E07E8-B4F2-4010-8341-4A6EB264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AB0B1-4231-4CB4-A6F3-A9763065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AED86-DB35-489A-BCE8-BAF668E2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EF9B8-9D9F-4DE7-B012-41B16A3B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6C02E-25E9-4703-AA71-B4EDC8BC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77883-FEFC-4051-B53D-B8B59B9E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DC694-0B70-437C-B9D0-A59F260D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E5D68-C340-46D4-A53A-52FEF035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08DF4-3DF0-47B9-935D-E92B7BBE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E1A28-64CF-4AEA-8711-E797A07B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36C-2112-4878-9608-DEC39F51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FD6DD-60DD-4ABC-9FD2-4A054956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0EA91-6796-446A-8FCA-D004236C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FE66F-DE29-4268-97F2-459DA05F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48872-F2B5-4127-BC7A-69EA4CB9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AFCA8-B64F-43B5-A2B0-A2292A51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67DC7-C37A-4919-80A5-B4F654F8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C8EBE-889A-47FD-94E9-B49B27B6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DC7DE-D66C-4F86-9BF8-B12C5F24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9D34F-40AE-4302-B706-CA59B16D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3A1D2-5D03-48D0-8544-B43F6062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C7A-C4F6-4539-B291-E846556D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EF225-C287-4769-9B07-A4FE75FC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16EE5-9878-44C3-8473-12E1CB92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A5AB9-2B6C-4CDA-8216-D3F003C4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FE9FC-ED15-4B08-A2C0-BD132700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B381A-37EF-489D-B8C3-5FBAA273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E89C3-E5B9-42B9-8A20-F65B0501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D8E6C-2121-4E65-B2C5-DAA4DB3A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8DFF-617D-41F7-BCAD-A9266944CF4C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AE06-9791-454F-B7F6-2780F4C33F7F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05AC-05A8-4035-BECB-C50E6D57D5BC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A3F9-197D-4B05-8959-27059EACDF6F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9A34-05C7-4A83-B928-6206072B2436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296B-C9DE-4B99-A370-FC37C18B5D4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E11E-6BD0-415E-88BD-2D75AB5F1F87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EE80-6A43-48E0-83DC-4DA1994CD552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13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mbria"/>
              </a:rPr>
              <a:t>ПРОБЛЕМЫ ФОРМАЛИЗАЦИИ СМЫСЛОВОЙ СТРУКТУРЫ ТЕКСТА</a:t>
            </a:r>
            <a:endParaRPr b="0" lang="en-US" sz="41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500120" y="3714840"/>
            <a:ext cx="6400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64653"/>
                </a:solidFill>
                <a:latin typeface="Cambria"/>
              </a:rPr>
              <a:t>Гергия Т.Р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4653"/>
                </a:solidFill>
                <a:latin typeface="Cambria"/>
              </a:rPr>
              <a:t>научный руководитель – Рыков В.В., кандидат филологических наук, доцент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4653"/>
                </a:solidFill>
                <a:latin typeface="Cambria"/>
              </a:rPr>
              <a:t>Московский Физико-Технический Институ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4653"/>
                </a:solidFill>
                <a:latin typeface="Cambria"/>
              </a:rPr>
              <a:t>Кафедра Информатик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64653"/>
                </a:solidFill>
                <a:latin typeface="Cambria"/>
                <a:ea typeface="HG明朝E"/>
              </a:rPr>
              <a:t>Ядерные предложения.</a:t>
            </a: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6920" y="148392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нотатный графы  можно привести к линейной записи, состоящей из простых, нераспространенных предложений – ядерных предлож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ждому предложению соответствует ”пара денотатов”, между которыми зафиксировано отношени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ть максимальная линейная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ертка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”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нотатной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уктуры тек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ПОСТ нотация.</a:t>
            </a: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28760" y="1143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ществует единственный универсальный графический язык - ПОСТ нотац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е отличие состоит в том, что она без труда может быть понята неспециалис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тота обусловлена тем, что в основе этого языка лежат всего два базовых элемента: объекты и действ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субъект – объект – предикат»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5" name="Object 4"/>
          <p:cNvGraphicFramePr/>
          <p:nvPr/>
        </p:nvGraphicFramePr>
        <p:xfrm>
          <a:off x="1428840" y="4143240"/>
          <a:ext cx="5715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4143240"/>
                    <a:ext cx="5715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Метод</a:t>
            </a: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 (</a:t>
            </a: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алгоритм</a:t>
            </a: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)</a:t>
            </a: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 анализа текстов, основанный на построении ПОСТ-диаграмм.</a:t>
            </a: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26920" y="1125360"/>
            <a:ext cx="7632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ловой текст структурировать (подразделить) на смысловые единицы, касающиеся описания моделируемой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иминировать части текстов, имеющие общий, неконкретный характе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каждой смысловой единице текста выделить фрагменты согласно структурной подоснове речемыслия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субъект – объект – предикат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выделенных фрагментов выписать отдельными списками (линейными графами) цепочки: объект(ы) входа → исполнитель (субъект действия, или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 ↓ преобразование, осуществляемое процессором → объект(ы) на выходе преобразования. Объекты помещаются в квадратные скобки [текст], а процессные части в круглые (процессор↓процесс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деленные фрагменты представить в форме ПОСТ-диаграмм фрагмен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динить отдельные фрагменты в процессную сеть по признаку пересечения выходных объектов предыдущего элементарного процесса с входами последующе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ерить логическую целостность полученной диаграммы. При необходимости обратиться за помощью к экспертам по данной предметной области. Проверить синтаксическое соответствие полученной диаграммы формальным требованиям ПОСТ-методолог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Пример разбора текста и построения ПОСТ-диаграммы.</a:t>
            </a: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50560" y="1125360"/>
            <a:ext cx="8497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Для примера применения указанного алгоритма можно взять небольшой фрагмент инструкции о порядке заполнения и использования таможенной расписки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 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ервый экземпляр таможенной расписки и квитанция к КПО выдаются плательщику для передачи инспектору-исполнителю в качестве подтверждения оплаты, а также для окончательного оформления третьего экземпляра таможенной расписки, в котором инспектор-исполнитель вносит сведения о внесении суммы обеспечения в графу 7 таможенной расписки”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7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480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Представление денотатной структуры в ПОСТ-нотации.</a:t>
            </a: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285480" y="164268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которые (или все) ядерные предложения могут быть разобраны в ПОСТ-нот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ное содержание может быть записано в ПОСТ-нот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другой стороны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предложение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кста не ядерное  и ему соответствует целый фрагмент денотатного графа (несколько ядерных предложений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пись в ПОСТ-нотации не будет отражать предметных зависимос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дложения текста должны максимально близко описывать предметные отношения (в идеале – быть ядерными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трелка вниз 8"/>
          <p:cNvSpPr/>
          <p:nvPr/>
        </p:nvSpPr>
        <p:spPr>
          <a:xfrm>
            <a:off x="4429080" y="221472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Стрелка вниз 9"/>
          <p:cNvSpPr/>
          <p:nvPr/>
        </p:nvSpPr>
        <p:spPr>
          <a:xfrm>
            <a:off x="4429080" y="421488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Левая фигурная скобка 11"/>
          <p:cNvSpPr/>
          <p:nvPr/>
        </p:nvSpPr>
        <p:spPr>
          <a:xfrm rot="16200000">
            <a:off x="4286160" y="785520"/>
            <a:ext cx="642960" cy="864396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8643960"/>
              <a:gd name="textAreaBottom" fmla="*/ 8627400 h 864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"/>
                  <a:pt x="10800" y="134"/>
                </a:cubicBezTo>
                <a:lnTo>
                  <a:pt x="10800" y="2224"/>
                </a:lnTo>
                <a:cubicBezTo>
                  <a:pt x="10800" y="2291"/>
                  <a:pt x="5400" y="2358"/>
                  <a:pt x="0" y="2358"/>
                </a:cubicBezTo>
                <a:cubicBezTo>
                  <a:pt x="5400" y="2358"/>
                  <a:pt x="10800" y="2425"/>
                  <a:pt x="10800" y="2492"/>
                </a:cubicBezTo>
                <a:lnTo>
                  <a:pt x="10800" y="21466"/>
                </a:lnTo>
                <a:cubicBezTo>
                  <a:pt x="10800" y="2153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Выводы.</a:t>
            </a: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56760" y="142848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какой метод разбора синтаксических связей не может быть использован для выделения смыслового содержания текста  в общем случа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ысловое содержание текста может быть выделено подобными методами только если денотатная структура текста обнажена в его языковом и логическом выражении (к пример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техническая документация с описанием информационных или бизнес-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4200" y="-214560"/>
            <a:ext cx="8507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Проблема представления и обработки информации.</a:t>
            </a: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8760" y="1213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ъемы информации возрастают быстрее, чем способность её обрабатыв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сть минимизации затрат, связанных с процессом восприятия и понимания информ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сть  выделения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го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предметного) содержания текста.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сть новых (нетекстовых) средств представления информ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сть формализованного подх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Стрелка вниз 14"/>
          <p:cNvSpPr/>
          <p:nvPr/>
        </p:nvSpPr>
        <p:spPr>
          <a:xfrm>
            <a:off x="4357800" y="171468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трелка вниз 15"/>
          <p:cNvSpPr/>
          <p:nvPr/>
        </p:nvSpPr>
        <p:spPr>
          <a:xfrm>
            <a:off x="4357800" y="285768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17"/>
          <p:cNvSpPr/>
          <p:nvPr/>
        </p:nvSpPr>
        <p:spPr>
          <a:xfrm>
            <a:off x="428760" y="3357720"/>
            <a:ext cx="7929360" cy="2071440"/>
          </a:xfrm>
          <a:prstGeom prst="rect">
            <a:avLst/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5071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Выделение основного содержания текста.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57120" y="121428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определить и выразить в явном виде смысловую структуру текст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нотатный подход Новик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нотат - объект внеязыковой действительности, который имеет в виду говорящий в контексте конкретной языковой ситу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Стрелка вниз 5"/>
          <p:cNvSpPr/>
          <p:nvPr/>
        </p:nvSpPr>
        <p:spPr>
          <a:xfrm>
            <a:off x="4286160" y="1928880"/>
            <a:ext cx="500040" cy="92880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507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Подход Новикова</a:t>
            </a:r>
            <a:r>
              <a:rPr b="1" lang="ru-RU" sz="2300" spc="-1" strike="noStrike">
                <a:solidFill>
                  <a:srgbClr val="464653"/>
                </a:solidFill>
                <a:latin typeface="Cambria"/>
              </a:rPr>
              <a:t> – выделение денотатной структуры текста.</a:t>
            </a:r>
            <a:endParaRPr b="0" lang="en-US" sz="23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57120" y="1214280"/>
            <a:ext cx="85946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Текст есть единство трех планов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. Предметное содержани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2. Логическое содержани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3. Языковое оформлени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2. и 3. составляют внешнюю форму текста, но не сам текс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смысление текста проходит на пунктах 2. и 3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результате осмысления в мышлении формируется пункт 1. - предметное содержани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дметное содержание – есть совокупность денотатов, связанных между собой предметными соотношениями  - это и есть денотатная структур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Прямоугольник 4"/>
          <p:cNvSpPr/>
          <p:nvPr/>
        </p:nvSpPr>
        <p:spPr>
          <a:xfrm>
            <a:off x="571680" y="1500120"/>
            <a:ext cx="3357360" cy="1071720"/>
          </a:xfrm>
          <a:prstGeom prst="rect">
            <a:avLst/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507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53"/>
                </a:solidFill>
                <a:latin typeface="Cambria"/>
              </a:rPr>
              <a:t>Пример текста без предметного содержания</a:t>
            </a: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56760" y="1214280"/>
            <a:ext cx="82868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нератор псевдонаучных тексто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sna.yandex.r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а: «Экспериментальный скачок функции: геодезическая линия или интеграл Фурье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мма ряда искажает абстрактный ортогональный определитель, откуда следует доказываемое равенство. Математический анализ, исключая очевидный случай, ускоряет коллинеарный экстремум функции, что и требовалось доказать. Мнимая единица продуцирует линейно зависимый полином, что неудивитель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Прямоугольник 5"/>
          <p:cNvSpPr/>
          <p:nvPr/>
        </p:nvSpPr>
        <p:spPr>
          <a:xfrm>
            <a:off x="571680" y="1857240"/>
            <a:ext cx="8072280" cy="2428920"/>
          </a:xfrm>
          <a:prstGeom prst="rect">
            <a:avLst/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1" lang="ru-RU" sz="2300" spc="-1" strike="noStrike">
                <a:solidFill>
                  <a:srgbClr val="464653"/>
                </a:solidFill>
                <a:latin typeface="Cambria"/>
              </a:rPr>
              <a:t>Неприменимость синтаксического разбора для выделения смыслового содержания. </a:t>
            </a:r>
            <a:br>
              <a:rPr sz="2900"/>
            </a:br>
            <a:endParaRPr b="0" lang="en-US" sz="23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26920" y="148392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граниченность соотнесением двух верхних уровней текста – 2. и 3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Логическое содерж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Языковое оформл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ражает только определенный промежуточный этап в переходе к окончательному результату понимания, т.е. уровню предметного содержа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ный план текста остается нераскрыты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общем случае формализованные подходы, основанные на разборе связей в синтаксической  структуры документа неприменимы для анализа и выделения смыслового содержания из тек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6"/>
          <p:cNvSpPr/>
          <p:nvPr/>
        </p:nvSpPr>
        <p:spPr>
          <a:xfrm>
            <a:off x="1643040" y="2143080"/>
            <a:ext cx="2786040" cy="571680"/>
          </a:xfrm>
          <a:prstGeom prst="rect">
            <a:avLst/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Примеры ошибочного подхода.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26920" y="148392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.В. ДУДАРЬ, Д.Е. ШУКЛ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мантическая нейронная сеть, как формальный язык описания и обработки смысла текстов на естественном языке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руктура семантической нейронной сети извлекающей в реальном времени смысл из текста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Денотатный граф.</a:t>
            </a: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57120" y="135684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нотатная структура документа может быть представлена в виде денотатного граф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нотатный граф строится выделением всех денотатов и их отношений в текс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страняет языковую избыточность, свойственную текст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мер текста об обработке аппаратных прерываний устройств ввода-вывода в операционной системе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Window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ппаратные прерывания обычно генерируются устройствами ввода-вывода, которые таким образом уведомляют процессор о необходимости уделить им внимание. Устройства, управляемые на основе прерываний, позволяют операционной системе максимально полно использовать процессор, совмещая основную обработку с обслуживанием ввода-вывода”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64653"/>
                </a:solidFill>
                <a:latin typeface="Cambria"/>
              </a:rPr>
              <a:t>Пример денотатного графа.</a:t>
            </a: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Organization Chart 2"/>
          <p:cNvGrpSpPr/>
          <p:nvPr/>
        </p:nvGrpSpPr>
        <p:grpSpPr>
          <a:xfrm>
            <a:off x="785880" y="1428840"/>
            <a:ext cx="8025480" cy="4824000"/>
            <a:chOff x="785880" y="1428840"/>
            <a:chExt cx="8025480" cy="4824000"/>
          </a:xfrm>
        </p:grpSpPr>
        <p:cxnSp>
          <p:nvCxnSpPr>
            <p:cNvPr id="396" name="_s122884"/>
            <p:cNvCxnSpPr>
              <a:stCxn id="397" idx="0"/>
              <a:endCxn id="398" idx="2"/>
            </p:cNvCxnSpPr>
            <p:nvPr/>
          </p:nvCxnSpPr>
          <p:spPr>
            <a:xfrm flipV="1" rot="16200000">
              <a:off x="6360480" y="1608120"/>
              <a:ext cx="155880" cy="1914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399" name="_s122885"/>
            <p:cNvCxnSpPr>
              <a:stCxn id="400" idx="1"/>
              <a:endCxn id="401" idx="1"/>
            </p:cNvCxnSpPr>
            <p:nvPr/>
          </p:nvCxnSpPr>
          <p:spPr>
            <a:xfrm flipH="1" flipV="1" rot="10800000">
              <a:off x="1807560" y="2049840"/>
              <a:ext cx="203040" cy="2207520"/>
            </a:xfrm>
            <a:prstGeom prst="bentConnector3">
              <a:avLst>
                <a:gd name="adj1" fmla="val -87744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02" name="_s122886"/>
            <p:cNvCxnSpPr>
              <a:stCxn id="401" idx="0"/>
              <a:endCxn id="403" idx="2"/>
            </p:cNvCxnSpPr>
            <p:nvPr/>
          </p:nvCxnSpPr>
          <p:spPr>
            <a:xfrm flipV="1" rot="16200000">
              <a:off x="2765880" y="3540600"/>
              <a:ext cx="331200" cy="290880"/>
            </a:xfrm>
            <a:prstGeom prst="bentConnector3">
              <a:avLst>
                <a:gd name="adj1" fmla="val 50163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04" name="_s122887"/>
            <p:cNvCxnSpPr>
              <a:stCxn id="403" idx="0"/>
              <a:endCxn id="398" idx="2"/>
            </p:cNvCxnSpPr>
            <p:nvPr/>
          </p:nvCxnSpPr>
          <p:spPr>
            <a:xfrm flipH="1" flipV="1" rot="5400000">
              <a:off x="3848400" y="1423800"/>
              <a:ext cx="571320" cy="2696040"/>
            </a:xfrm>
            <a:prstGeom prst="bentConnector3">
              <a:avLst>
                <a:gd name="adj1" fmla="val 36191"/>
              </a:avLst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398" name="_s122888"/>
            <p:cNvSpPr/>
            <p:nvPr/>
          </p:nvSpPr>
          <p:spPr>
            <a:xfrm>
              <a:off x="4438080" y="1428840"/>
              <a:ext cx="2087280" cy="1032840"/>
            </a:xfrm>
            <a:prstGeom prst="roundRect">
              <a:avLst>
                <a:gd name="adj" fmla="val 0"/>
              </a:avLst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стройство ввода, управляемое на основе прерывани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122889"/>
            <p:cNvSpPr/>
            <p:nvPr/>
          </p:nvSpPr>
          <p:spPr>
            <a:xfrm>
              <a:off x="2177280" y="3083040"/>
              <a:ext cx="1216800" cy="41364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генериру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122890"/>
            <p:cNvSpPr/>
            <p:nvPr/>
          </p:nvSpPr>
          <p:spPr>
            <a:xfrm>
              <a:off x="2032920" y="3876120"/>
              <a:ext cx="2085480" cy="759600"/>
            </a:xfrm>
            <a:prstGeom prst="roundRect">
              <a:avLst>
                <a:gd name="adj" fmla="val 0"/>
              </a:avLst>
            </a:prstGeom>
            <a:noFill/>
            <a:ln w="2844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Аппаратное прерывани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22891"/>
            <p:cNvSpPr/>
            <p:nvPr/>
          </p:nvSpPr>
          <p:spPr>
            <a:xfrm>
              <a:off x="1829520" y="1842480"/>
              <a:ext cx="1391400" cy="41364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правля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22892"/>
            <p:cNvSpPr/>
            <p:nvPr/>
          </p:nvSpPr>
          <p:spPr>
            <a:xfrm>
              <a:off x="6699600" y="2669760"/>
              <a:ext cx="1391400" cy="4132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ведомля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5" name="_s1031"/>
            <p:cNvCxnSpPr>
              <a:stCxn id="400" idx="3"/>
              <a:endCxn id="398" idx="1"/>
            </p:cNvCxnSpPr>
            <p:nvPr/>
          </p:nvCxnSpPr>
          <p:spPr>
            <a:xfrm flipV="1">
              <a:off x="3248280" y="1943640"/>
              <a:ext cx="1162800" cy="10620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406" name="_s1043"/>
            <p:cNvSpPr/>
            <p:nvPr/>
          </p:nvSpPr>
          <p:spPr>
            <a:xfrm>
              <a:off x="6699600" y="3495240"/>
              <a:ext cx="1391400" cy="413640"/>
            </a:xfrm>
            <a:prstGeom prst="roundRect">
              <a:avLst>
                <a:gd name="adj" fmla="val 0"/>
              </a:avLst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роцессор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7" name="_s1066"/>
            <p:cNvCxnSpPr>
              <a:stCxn id="406" idx="0"/>
              <a:endCxn id="397" idx="2"/>
            </p:cNvCxnSpPr>
            <p:nvPr/>
          </p:nvCxnSpPr>
          <p:spPr>
            <a:xfrm flipV="1">
              <a:off x="7394760" y="3096720"/>
              <a:ext cx="1440" cy="384840"/>
            </a:xfrm>
            <a:prstGeom prst="straightConnector1">
              <a:avLst/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408" name="_s1099"/>
            <p:cNvSpPr/>
            <p:nvPr/>
          </p:nvSpPr>
          <p:spPr>
            <a:xfrm>
              <a:off x="6306120" y="4426560"/>
              <a:ext cx="2086200" cy="4204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деляет вним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_s1107"/>
            <p:cNvCxnSpPr>
              <a:stCxn id="408" idx="0"/>
              <a:endCxn id="406" idx="2"/>
            </p:cNvCxnSpPr>
            <p:nvPr/>
          </p:nvCxnSpPr>
          <p:spPr>
            <a:xfrm flipH="1" flipV="1" rot="5400000">
              <a:off x="7126920" y="4145040"/>
              <a:ext cx="490320" cy="45360"/>
            </a:xfrm>
            <a:prstGeom prst="bentConnector3">
              <a:avLst>
                <a:gd name="adj1" fmla="val 5011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10" name="_s1123"/>
            <p:cNvCxnSpPr>
              <a:stCxn id="408" idx="3"/>
              <a:endCxn id="398" idx="3"/>
            </p:cNvCxnSpPr>
            <p:nvPr/>
          </p:nvCxnSpPr>
          <p:spPr>
            <a:xfrm flipH="1" flipV="1">
              <a:off x="6550920" y="1943640"/>
              <a:ext cx="1867680" cy="2693880"/>
            </a:xfrm>
            <a:prstGeom prst="bentConnector3">
              <a:avLst>
                <a:gd name="adj1" fmla="val -21052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11" name="_s1172"/>
            <p:cNvCxnSpPr>
              <a:stCxn id="412" idx="0"/>
              <a:endCxn id="398" idx="2"/>
            </p:cNvCxnSpPr>
            <p:nvPr/>
          </p:nvCxnSpPr>
          <p:spPr>
            <a:xfrm flipH="1" flipV="1" rot="5400000">
              <a:off x="4646520" y="3044160"/>
              <a:ext cx="1404360" cy="267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412" name="_s1196"/>
            <p:cNvSpPr/>
            <p:nvPr/>
          </p:nvSpPr>
          <p:spPr>
            <a:xfrm>
              <a:off x="4169520" y="3893400"/>
              <a:ext cx="2087280" cy="7822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озволяет   использова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3" name="_s1172"/>
            <p:cNvCxnSpPr>
              <a:stCxn id="412" idx="3"/>
              <a:endCxn id="406" idx="1"/>
            </p:cNvCxnSpPr>
            <p:nvPr/>
          </p:nvCxnSpPr>
          <p:spPr>
            <a:xfrm flipV="1">
              <a:off x="6284520" y="3702240"/>
              <a:ext cx="388080" cy="582120"/>
            </a:xfrm>
            <a:prstGeom prst="bentConnector3">
              <a:avLst>
                <a:gd name="adj1" fmla="val 49210"/>
              </a:avLst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414" name="_s1196"/>
            <p:cNvSpPr/>
            <p:nvPr/>
          </p:nvSpPr>
          <p:spPr>
            <a:xfrm>
              <a:off x="3990960" y="5672880"/>
              <a:ext cx="1392480" cy="4690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овмеща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_s1172"/>
            <p:cNvCxnSpPr>
              <a:stCxn id="416" idx="0"/>
              <a:endCxn id="417" idx="2"/>
            </p:cNvCxnSpPr>
            <p:nvPr/>
          </p:nvCxnSpPr>
          <p:spPr>
            <a:xfrm flipV="1" rot="16200000">
              <a:off x="2069280" y="5339880"/>
              <a:ext cx="80280" cy="557640"/>
            </a:xfrm>
            <a:prstGeom prst="bentConnector3">
              <a:avLst>
                <a:gd name="adj1" fmla="val 50900"/>
              </a:avLst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418" name="_s1043"/>
            <p:cNvSpPr/>
            <p:nvPr/>
          </p:nvSpPr>
          <p:spPr>
            <a:xfrm>
              <a:off x="5593680" y="5851440"/>
              <a:ext cx="522720" cy="401400"/>
            </a:xfrm>
            <a:prstGeom prst="roundRect">
              <a:avLst>
                <a:gd name="adj" fmla="val 0"/>
              </a:avLst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С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1196"/>
            <p:cNvSpPr/>
            <p:nvPr/>
          </p:nvSpPr>
          <p:spPr>
            <a:xfrm>
              <a:off x="5593680" y="5139720"/>
              <a:ext cx="1389600" cy="4654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спользу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0" name="_s1172"/>
            <p:cNvCxnSpPr>
              <a:stCxn id="418" idx="0"/>
              <a:endCxn id="419" idx="2"/>
            </p:cNvCxnSpPr>
            <p:nvPr/>
          </p:nvCxnSpPr>
          <p:spPr>
            <a:xfrm flipH="1" flipV="1" rot="5400000">
              <a:off x="5963760" y="5510520"/>
              <a:ext cx="218520" cy="435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21" name="_s1172"/>
            <p:cNvCxnSpPr>
              <a:stCxn id="419" idx="3"/>
              <a:endCxn id="406" idx="3"/>
            </p:cNvCxnSpPr>
            <p:nvPr/>
          </p:nvCxnSpPr>
          <p:spPr>
            <a:xfrm flipV="1">
              <a:off x="7009560" y="3702600"/>
              <a:ext cx="1107360" cy="1671120"/>
            </a:xfrm>
            <a:prstGeom prst="bentConnector3">
              <a:avLst>
                <a:gd name="adj1" fmla="val 135804"/>
              </a:avLst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417" name="_s1196"/>
            <p:cNvSpPr/>
            <p:nvPr/>
          </p:nvSpPr>
          <p:spPr>
            <a:xfrm>
              <a:off x="785880" y="4783320"/>
              <a:ext cx="2087640" cy="7822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озволяет  совмеща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_s1172"/>
            <p:cNvCxnSpPr>
              <a:stCxn id="417" idx="0"/>
              <a:endCxn id="398" idx="2"/>
            </p:cNvCxnSpPr>
            <p:nvPr/>
          </p:nvCxnSpPr>
          <p:spPr>
            <a:xfrm flipH="1" flipV="1" rot="5400000">
              <a:off x="2509920" y="1796760"/>
              <a:ext cx="2294280" cy="365184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416" name="_s1043"/>
            <p:cNvSpPr/>
            <p:nvPr/>
          </p:nvSpPr>
          <p:spPr>
            <a:xfrm>
              <a:off x="1142280" y="5672880"/>
              <a:ext cx="2493000" cy="576360"/>
            </a:xfrm>
            <a:prstGeom prst="roundRect">
              <a:avLst>
                <a:gd name="adj" fmla="val 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бслуживание Ввода-вывод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_s1043"/>
            <p:cNvSpPr/>
            <p:nvPr/>
          </p:nvSpPr>
          <p:spPr>
            <a:xfrm>
              <a:off x="3457080" y="4961520"/>
              <a:ext cx="1780920" cy="574560"/>
            </a:xfrm>
            <a:prstGeom prst="roundRect">
              <a:avLst>
                <a:gd name="adj" fmla="val 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сновная обработк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4" name="_s1172"/>
            <p:cNvCxnSpPr>
              <a:stCxn id="417" idx="3"/>
              <a:endCxn id="423" idx="1"/>
            </p:cNvCxnSpPr>
            <p:nvPr/>
          </p:nvCxnSpPr>
          <p:spPr>
            <a:xfrm>
              <a:off x="2899080" y="5173920"/>
              <a:ext cx="531720" cy="76680"/>
            </a:xfrm>
            <a:prstGeom prst="bentConnector3">
              <a:avLst>
                <a:gd name="adj1" fmla="val 49728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25" name="_s1172"/>
            <p:cNvCxnSpPr>
              <a:stCxn id="414" idx="3"/>
              <a:endCxn id="418" idx="1"/>
            </p:cNvCxnSpPr>
            <p:nvPr/>
          </p:nvCxnSpPr>
          <p:spPr>
            <a:xfrm>
              <a:off x="5409360" y="5908320"/>
              <a:ext cx="159120" cy="146160"/>
            </a:xfrm>
            <a:prstGeom prst="bentConnector3">
              <a:avLst>
                <a:gd name="adj1" fmla="val 49886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26" name="_s1172"/>
            <p:cNvCxnSpPr>
              <a:stCxn id="414" idx="0"/>
              <a:endCxn id="423" idx="2"/>
            </p:cNvCxnSpPr>
            <p:nvPr/>
          </p:nvCxnSpPr>
          <p:spPr>
            <a:xfrm flipV="1" rot="16200000">
              <a:off x="4463640" y="5435280"/>
              <a:ext cx="109800" cy="338040"/>
            </a:xfrm>
            <a:prstGeom prst="bentConnector3">
              <a:avLst>
                <a:gd name="adj1" fmla="val 50657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27" name="_s1172"/>
            <p:cNvCxnSpPr>
              <a:stCxn id="416" idx="3"/>
              <a:endCxn id="414" idx="1"/>
            </p:cNvCxnSpPr>
            <p:nvPr/>
          </p:nvCxnSpPr>
          <p:spPr>
            <a:xfrm flipV="1">
              <a:off x="3662640" y="5907600"/>
              <a:ext cx="302760" cy="54360"/>
            </a:xfrm>
            <a:prstGeom prst="bentConnector3">
              <a:avLst>
                <a:gd name="adj1" fmla="val 49404"/>
              </a:avLst>
            </a:prstGeom>
            <a:ln w="9360">
              <a:solidFill>
                <a:srgbClr val="666699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5T12:14:42Z</dcterms:created>
  <dc:creator>Alexey</dc:creator>
  <dc:description/>
  <dc:language>en-US</dc:language>
  <cp:lastModifiedBy>abhaz</cp:lastModifiedBy>
  <dcterms:modified xsi:type="dcterms:W3CDTF">2010-06-24T05:24:10Z</dcterms:modified>
  <cp:revision>235</cp:revision>
  <dc:subject/>
  <dc:title>Численное моделирование глобальных электрических сетей </dc:title>
</cp:coreProperties>
</file>