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notesMasterIdLst>
    <p:notesMasterId r:id="rId23"/>
  </p:notes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notesMaster" Target="notesMasters/notesMaster1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503280" y="221760"/>
            <a:ext cx="5656320" cy="424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Данная работа относится к исследованиям в области моделирования бизнес-процессов. На этапе проектирования процесса строятся парето-оптимальные кривые процесса с использованием морфологического анализа.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900" spc="-1" strike="noStrike">
                <a:solidFill>
                  <a:srgbClr val="000066"/>
                </a:solidFill>
                <a:latin typeface="Arial"/>
              </a:rPr>
              <a:t>Оптимальное построение бизнес-процессов является одной из существенных задач стратегического планирования.  Предлагаемый в работе метод применяется на этапе выбора средств производства и способа распределения ресурсов при уже заданном наборе операций в процессе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Данный метод подразумевает проектирование процесса “с чистого листа”, внесение инноваций и творческий подход проектной команды.  Применяется для устаревших процессов, которые перепроектирование не принесёт требуемых результатов.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Анализ общей картины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Теория единиц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Имитация процесса.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Моделирование процесса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Данный метод подразумевает проектирование процесса “с чистого листа”, внесение инноваций и творческий подход проектной команды.  Применяется для устаревших процессов, которые перепроектирование не принесёт требуемых результатов.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Анализ общей картины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Теория единиц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Имитация процесса.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Моделирование процесса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Данный метод подразумевает проектирование процесса “с чистого листа”, внесение инноваций и творческий подход проектной команды.  Применяется для устаревших процессов, которые перепроектирование не принесёт требуемых результатов.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Анализ общей картины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Теория единиц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Имитация процесса.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Моделирование процесса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503280" y="222120"/>
            <a:ext cx="5656320" cy="424188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175680" y="4508640"/>
            <a:ext cx="6309000" cy="52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Данный метод подразумевает проектирование процесса “с чистого листа”, внесение инноваций и творческий подход проектной команды.  Применяется для устаревших процессов, которые перепроектирование не принесёт требуемых результатов. 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Анализ общей картины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Теория единиц. 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Имитация процесса.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Aft>
                <a:spcPts val="113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900" spc="-1" strike="noStrike">
                <a:solidFill>
                  <a:srgbClr val="000066"/>
                </a:solidFill>
                <a:latin typeface="Arial"/>
              </a:rPr>
              <a:t>Моделирование процесса</a:t>
            </a:r>
            <a:endParaRPr b="0" lang="en-US" sz="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F1D5-C184-41ED-B907-BF07C8B6A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EC83-518B-4359-B31A-BE607F59DA0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1905-D668-4AF6-B461-EB3D378FAD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EA3B-A95B-46CA-BD32-3BBAD47184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DF2ED-1F0D-4B88-9260-574BF55F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34075-94A5-4ACF-B4FC-57419549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51568-0490-4A90-8779-D0A3066E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BF96DA-D4A6-4998-9247-294CDE7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C34B1-FD65-4C73-A523-F014CAA7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4ECD94-F65D-43A1-B2D2-5021A017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47314-B40C-4709-B4FE-EF54D574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827F2-3C0F-410F-A495-70CA814C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1A53D-48BB-4A3B-AB6C-EFF830D1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CA7-B02B-470F-86A9-FEBA389DE73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E64024-C581-4266-AA87-DA2A8E4E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E30316-C30B-4460-9A4F-DB6F1945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BDAC3-97C5-4C9B-812E-62E475F0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C45F-90A3-4693-8158-6745C974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83C04-C79C-4F6E-8644-7D35A30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75A48-BF34-4648-807E-B921297F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FD0C-46B6-4CEB-9F2D-15C5815A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740FA-FBA2-46BB-AC81-EA6A99C8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7636F-5473-498E-9DD8-656522C9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4AA7-3457-4EF1-981E-F12D385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FE2-B66C-4E1C-93D1-3DFED92B1E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973E-E88A-4ED7-A2B8-CFB5F9E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E0D04-DD11-4108-866E-FF350A6A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53DAC-D497-44B1-9603-6264966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78E70-6EE4-4B43-95BC-4BF231BE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1F0D4-415A-4714-A051-06165AAE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FE13C-8F4D-40AA-AFE0-00808F2B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8EC9E-8E58-448A-AF5F-B8390ACC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D7149-D9B3-45E5-B25E-A2975479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AA27-84DA-45C4-B43D-56F73FA1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EE71-8307-48F0-AFF8-DFE777B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8496-4D2E-4544-848D-972B9374AF8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057FC-6281-47D6-BF71-8AA17C62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73BA-D103-4B16-91C8-D674E469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087C-8407-4A81-A26D-721BB76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3DD23-68E2-4AC4-BB50-022006B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9D993-8B53-46BA-9046-A837768C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80F42-A70F-4ABC-8F8C-856441CF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011B4-23F2-4C6D-899F-1BA2C32F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483D8-712B-4C25-988B-B2DDCFB0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21424-7B0B-47C7-8F2C-CE0DAE4E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02838-4B24-4C41-89EE-3852503A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3B5-0BA7-4708-B467-0B210AAD187D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43384-BDB6-4E41-9139-F576CAF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9610E-33D8-47C2-A36A-C119DE31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45141-A9F0-400A-9AB6-BD070EFC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5631A-EA18-45BB-8337-6A2C5FC0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2AC70-737B-4E89-872C-FEB23E4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1BFC-04B7-4621-8D2F-8ECD183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05668-95F5-4700-9DA3-6567D37F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728C1-2367-4DBD-B9A9-3DF53A4F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095F1-C7A1-43D7-A0BD-4EEBF66D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43C61-5A8F-4445-86AE-F99C1D1E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FB7-71DE-45BA-B0A9-8FA24C57F1C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3E1ED-1CD0-403B-A8AF-089DADD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5C7CB-0B77-48A8-92FC-21C8C43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C43BA-5279-47AC-9224-F89D9F7B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206D6-8981-4213-BDE0-7667CF2F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A4879-7595-4A9E-9D74-4608B173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CB95B-17A3-45CF-87F6-3A9EEEEF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BEC68-0918-4FB4-8E85-84AA2DB3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D960C-4846-4B58-8B4B-9D41670C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FE031-1081-4969-9E7C-7CFBF29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43BC5-5896-499B-8407-1316BF8F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8BB-31D5-4EBC-9E56-18AF480B428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C3A58-8ED0-4E18-9995-E4A5AA2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392B4-838E-4430-A8B6-19394C00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29060-C102-4D28-9290-8B529076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196B0-6D25-4DC3-9A97-9222449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AC841-E061-4E09-BDAE-A24EFE66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71010-4E12-4D99-BDA8-97F41721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5336F3-F08E-4083-813A-27B19FC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90770-ECF4-4804-A68A-C7FB7B5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751DD-604C-48F8-A75B-7E5D0FBC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9DB6E-FD2D-412A-810F-FD411255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FAD-57DC-4008-8CDC-66D1CE66C07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D3E16-1B50-4619-A6F4-CC73A98A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43A78-4F0A-4B6E-922E-3EBC5BB4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D02F-1748-4643-AC76-CE260BB7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6DFDC-9EB4-4B42-A94D-C441B15B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CAD44-7C00-4FC4-948C-3E36E158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9364E-E831-4541-BD33-E547985F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A0D40-9D4D-4025-BDED-40F8692C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5DA4-008C-4DEC-8BA8-EEC97DCA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73362-A08F-4DB4-B463-439D06CC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81D62-FF3C-4468-893B-0205812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18F8-26C5-4016-8BEF-48F6E6E6B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120-C29C-4548-8026-4A45E71D9DD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40FE9-F254-49EF-B015-5E4A6704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858E0-5F12-4292-A451-244A01A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5FBFE2-395B-4D14-AC6A-1DF6D32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2150-F3D6-4E40-B1F2-45ACC7BE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DF66-0B7A-49A0-946D-2A08BD94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3FFF3-7370-4502-9068-098CAD3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DE530-A8E3-418F-8EBC-6E800341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2ABD-C043-4AB1-AA9A-669FB6B9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59785-27E4-42F1-B73E-95FEE31C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96B15-9112-42E7-B3BA-445970A3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C9F-5B6F-4D41-8D35-6BC77E35064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53B8E-2977-41AC-A0B6-9E0F546D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3C4C-D3D4-49D7-A99E-DBC499E7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C40C-EDC3-496E-A461-9EB6EF7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85C3B-30CC-46EE-A76F-BCA2CA3C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E479D6-D4B2-4BA1-9D98-27F7F38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543CA-6FE1-45B7-8E34-94D693CF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C199F-D318-4A19-A803-96A2BBB6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ACB1B-6172-4575-923E-DE446631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7FAFE-D67D-43DD-A9F6-9A3FDF9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A8057-B109-4E14-9DE7-3B8FBD7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C26-EAEF-4727-AA78-205A8E9325A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4C4D04-2508-4588-AFA5-3E4E4E54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EFF4D-0F2F-4A6B-8FC0-8D8E4749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03BCA-95FF-4429-BF20-7C74B877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DCDAE-053E-4217-B523-95D47736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763EC-FF62-4E3B-9367-32A28F0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A3EE8-0409-4A4E-8AF3-CA95DC67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94C94-2BFF-4D13-825D-1E0A10C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DFA19-7D65-4FD0-90B0-D5132757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11ABA-112B-461D-949B-FCED1020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95C7E-4D20-4A64-AD7B-D75D3D2E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1AA6-ABCD-4A83-A601-0009849FBBD8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B82B7-3355-41CE-8F23-6C6DBE6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204C8B-A2CB-44EB-AD3C-CE54CD9E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07396-3831-44B4-9359-4A7A2F9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89161-6209-4693-8C46-85C8A70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3A051F-C561-4264-AA89-184C4056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3BA54-E487-4321-915C-CCBFC811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DEC5F-6D03-413A-A676-DC3F0F4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337C2-274D-49CA-8D18-60D3A758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CA97F-FE61-4AF1-B5C2-3A63639F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3BBE3-21B9-492A-B5D9-4753DF02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C4A-2C7B-4A2B-9E10-F7F7C448182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A6218-DDC0-4B74-952C-FEF00A18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E0B58-3466-49B9-AD4A-645C29AA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D608E-F74E-4C66-B33E-90824C71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E5B68-64F0-4AA0-8FBE-269FC6BF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86EB6-C69D-4CC6-853A-159BFFB9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4CA97-6FE2-4933-868C-AF3E4F6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378A2-869B-4720-AF67-5541EBF3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A057F-D39F-44FB-B108-FA5768AA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25737-ACBF-4756-9912-BB314C7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34F696-176D-4093-A80D-C365CD8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3D99-2AB6-48C5-A8D8-9983B81ADF7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10264-7DC8-46B8-8E1B-353C2571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A7682-7D07-420A-AF33-8E6CBE36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2B70A-31F1-4C4D-B166-C3B09DA7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E246B-C1BA-4E66-9F83-52C73F9D16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4569A-804A-44F8-B895-35C3BE9A17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2B888-E586-49DE-A3BA-3591B3A08A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8321E-EFE9-4BAA-9932-08AAE35B8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695B-BAFC-4446-96BA-44053776155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44A7B-41AA-4D86-BE8B-3FF27EDF8A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3BE31-0A82-462E-8789-CA2CE11161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27FFD-5A9C-46C6-824F-69F61835DB8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8E410-F25E-417D-9116-D19B23824D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9154-062C-411D-B587-8ADFD46554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0196D-CC20-49CA-BA39-54AD96E46C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BAE20-67CE-4945-AF04-65057068BF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E1465-9DD9-4861-836D-8F0DF2FD395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EB47A5-E895-478D-81ED-ED2C9DE7A1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E28B14-53DC-49F1-BB68-B5CF2FF9B3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BC073-F10D-4BB3-9645-F76F1CC6BB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E19EB-B59B-478F-9220-89997D796D3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D065A-2EC3-4279-AED2-D89994E71B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95A067-2F4B-42A1-9960-8E490683F3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B69E1-6ACD-4EA7-B08E-90820C89DC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9D404-6E0A-453B-AB46-0402372757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6D064-FF8D-4F65-89CE-5234CC72AE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AC565-9188-433D-A1C6-52B30AC3EA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4F583-50D1-4690-90C7-BD2AEA3AC7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B89EF-D80F-4D55-97F8-B4B3B44F768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A4629-112A-4D81-828E-81021312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4329-34DE-4B60-A07E-C832D5A1A2F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670EAB-C313-4057-9D63-31079D1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918F1D-FDC8-4560-8115-EC55E4EB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A0FC6-9537-45D4-9B56-9940E339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4F0AA-46E1-45F6-8164-21E2461F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3121E-29DC-402D-B37E-D66BA480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CEECB2-D4E4-41F1-B19F-323BA0C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E8E58-3F7C-4E10-AF3A-6C68BFDB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3A295E-53B4-41FE-AE99-80B7666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C429D3-9C4D-4C13-A63E-23DC78F1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6E05EC-9ABF-423A-A987-497B4AABE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64EC1-6413-427B-878B-A34E5E72AE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76295B-2032-4094-AD74-580807D7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1C2B-13A2-46C9-8E07-E320029FDEA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4F7ED-8ECA-456E-819B-A31333454ED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2987E-4A03-4792-8C05-03ED3C22CC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EB5BD-A0D4-4C3E-96EF-0609FA95DF4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1359-0FF9-4222-A5CE-58240D27DF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FF0A8-3BE6-41BB-BCB0-A403182F53E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DC2DF-5FC8-4A51-82A5-827348FC54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F8B4-BAF5-4C49-8B1E-9499A4572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3321-AC2F-4525-9D86-06F7F0CBC9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1426-E1DC-4CE9-95D1-EEF51967DF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4C84-E2E6-4829-B29C-D6EFB61CD37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51087-1EF5-4E62-8046-F222A9EE4E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2C662-8434-4047-9B77-2217A5B760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FB22-3E42-46FD-9BD3-D5AE44E0724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B99-6536-4298-A7E1-629B4DFBFB5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2960" y="6629400"/>
            <a:ext cx="3556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1B98-FFE3-4D53-960E-6DCBB054B9D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6"/>
          <p:cNvSpPr/>
          <p:nvPr/>
        </p:nvSpPr>
        <p:spPr>
          <a:xfrm>
            <a:off x="6494040" y="6629760"/>
            <a:ext cx="22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Deloitte &amp; Touche LLP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7" name="Picture 4" descr="DEL_COL_REV"/>
          <p:cNvPicPr/>
          <p:nvPr/>
        </p:nvPicPr>
        <p:blipFill>
          <a:blip r:embed="rId3"/>
          <a:stretch/>
        </p:blipFill>
        <p:spPr>
          <a:xfrm>
            <a:off x="358920" y="358920"/>
            <a:ext cx="1800000" cy="36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DEL_Strapline_UK_rev"/>
          <p:cNvPicPr/>
          <p:nvPr/>
        </p:nvPicPr>
        <p:blipFill>
          <a:blip r:embed="rId4"/>
          <a:stretch/>
        </p:blipFill>
        <p:spPr>
          <a:xfrm>
            <a:off x="376200" y="6505560"/>
            <a:ext cx="3230640" cy="169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177C-83C3-46F4-8DE7-E78E61F28D25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sldNum" idx="1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8E6-F955-442C-B85C-A03FD8BB169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1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EE1D-A97D-44C6-90E5-04A94BB2D4C8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DFB4-8FBC-467F-9CE1-488D676A7E1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6E36-9CC9-4C2C-AF66-A656B50C04B2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B57-3C1E-44CC-9070-6A8284ED6A97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7B9-1A9F-43E8-BFC3-8B5DC8616120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B28-2C63-4671-B0EC-4DC873D877F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7756-453C-4C16-9485-178C7F2DC752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3A4-6E4F-4732-96FD-1711DE8067C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F40-ED4A-4D42-BE1A-D63AA43DF7CB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FBD8-4B98-41A8-BE09-8B375DE839B8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A5A-26A3-46F0-B852-F8452BEDECBC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4ED-ADAE-4CFC-8BFD-F3CCBDFEF2A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94C6-751B-48E6-9061-C575635321DF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B730-3D84-4330-B6B3-D434A908922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35E4-0BDC-4B14-96A1-4510D58A7ED4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F1DB-6E16-4103-9B40-986597D9AB11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723600" y="6629400"/>
            <a:ext cx="52434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Chart, diagram &amp; table timesa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372960" y="6629400"/>
            <a:ext cx="3556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1840-F734-4CA1-B73D-32D69424CD31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319080" y="6629760"/>
            <a:ext cx="24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Deloitte Touche Tohmatsu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994-C02E-468B-9F2C-8BD04D81C7CC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7AE-D8B5-4E8E-B5C5-7902181A4D3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47CA-5600-49EC-9A8B-92E91DCCF0D1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613E-3B89-4CA2-AA90-9EBB910C50C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4"/>
          </p:nvPr>
        </p:nvSpPr>
        <p:spPr>
          <a:xfrm>
            <a:off x="723600" y="6629400"/>
            <a:ext cx="52434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Chart, diagram &amp; table timesa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5"/>
          </p:nvPr>
        </p:nvSpPr>
        <p:spPr>
          <a:xfrm>
            <a:off x="372960" y="6629400"/>
            <a:ext cx="3556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439-59BB-40AE-9F73-F29E1EC0A92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494040" y="6629760"/>
            <a:ext cx="22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© Deloitte &amp; Touche LLP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6"/>
          </p:nvPr>
        </p:nvSpPr>
        <p:spPr>
          <a:xfrm>
            <a:off x="723600" y="6629400"/>
            <a:ext cx="524340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Chart, diagram &amp; table timesa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7"/>
          </p:nvPr>
        </p:nvSpPr>
        <p:spPr>
          <a:xfrm>
            <a:off x="372960" y="6629400"/>
            <a:ext cx="3556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F1E4-0EE9-4910-93AD-EDA390DEFAC9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494040" y="6629760"/>
            <a:ext cx="22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Deloitte &amp; Touche LLP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5A2-EBB8-43C1-AC8F-3ACB49E18BA8}" type="datetime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Footer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B676-3013-4D61-A171-92E1596858E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DEL_COL"/>
          <p:cNvPicPr/>
          <p:nvPr/>
        </p:nvPicPr>
        <p:blipFill>
          <a:blip r:embed="rId2"/>
          <a:stretch/>
        </p:blipFill>
        <p:spPr>
          <a:xfrm>
            <a:off x="360360" y="358920"/>
            <a:ext cx="1800360" cy="360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1"/>
          </p:nvPr>
        </p:nvSpPr>
        <p:spPr>
          <a:xfrm>
            <a:off x="766440" y="6735600"/>
            <a:ext cx="52434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, diagram &amp; table timesa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2"/>
          </p:nvPr>
        </p:nvSpPr>
        <p:spPr>
          <a:xfrm>
            <a:off x="372960" y="6629400"/>
            <a:ext cx="355680" cy="1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727C-B881-4CB0-B352-C870F3AB658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6"/>
          <p:cNvSpPr/>
          <p:nvPr/>
        </p:nvSpPr>
        <p:spPr>
          <a:xfrm>
            <a:off x="6319080" y="6629760"/>
            <a:ext cx="24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© Deloitte Touche Tohmatsu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5" name="Picture 4" descr="DEL_COL_REV"/>
          <p:cNvPicPr/>
          <p:nvPr/>
        </p:nvPicPr>
        <p:blipFill>
          <a:blip r:embed="rId3"/>
          <a:stretch/>
        </p:blipFill>
        <p:spPr>
          <a:xfrm>
            <a:off x="358920" y="358920"/>
            <a:ext cx="1800000" cy="36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DEL_Strapline_USR"/>
          <p:cNvPicPr/>
          <p:nvPr/>
        </p:nvPicPr>
        <p:blipFill>
          <a:blip r:embed="rId4"/>
          <a:stretch/>
        </p:blipFill>
        <p:spPr>
          <a:xfrm>
            <a:off x="376200" y="6508800"/>
            <a:ext cx="3189240" cy="1666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6"/>
          <p:cNvSpPr/>
          <p:nvPr/>
        </p:nvSpPr>
        <p:spPr>
          <a:xfrm>
            <a:off x="6494040" y="6629760"/>
            <a:ext cx="228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66"/>
                </a:solidFill>
                <a:latin typeface="Arial"/>
              </a:rPr>
              <a:t>© Deloitte &amp; Touche LLP 2005. All rights reserved.</a:t>
            </a:r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6" name="Picture 4" descr="DEL_COL"/>
          <p:cNvPicPr/>
          <p:nvPr/>
        </p:nvPicPr>
        <p:blipFill>
          <a:blip r:embed="rId3"/>
          <a:stretch/>
        </p:blipFill>
        <p:spPr>
          <a:xfrm>
            <a:off x="360360" y="358920"/>
            <a:ext cx="1800360" cy="360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DEL_Strapline_UK_B"/>
          <p:cNvPicPr/>
          <p:nvPr/>
        </p:nvPicPr>
        <p:blipFill>
          <a:blip r:embed="rId4"/>
          <a:stretch/>
        </p:blipFill>
        <p:spPr>
          <a:xfrm>
            <a:off x="376200" y="6507000"/>
            <a:ext cx="3227400" cy="1684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56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58560" y="1168560"/>
            <a:ext cx="842148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169920" indent="-16668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45576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741240" indent="-169560">
              <a:spcAft>
                <a:spcPts val="1001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027080" indent="-169920">
              <a:spcAft>
                <a:spcPts val="1001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027080" indent="-169920"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44520" y="5457960"/>
            <a:ext cx="611352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тудент: Пельменёва Анна Александров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Руководитель: Рыков Владимир Васильевич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44160" y="500040"/>
            <a:ext cx="842148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МОСКОВСКИЙ ФИЗИКО-ТЕХНИЧЕСКИЙ ИНСТИТУТ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(ГОСУДАРСТВЕННЫЙ УНИВЕРСИТЕТ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Gothic"/>
              </a:rPr>
              <a:t>Кафедра Системной Интеграции и Менеджмента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DA3B96-FA0E-44DC-B24C-C3076C8FF8A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Rectangle 8"/>
          <p:cNvSpPr/>
          <p:nvPr/>
        </p:nvSpPr>
        <p:spPr>
          <a:xfrm>
            <a:off x="0" y="2398680"/>
            <a:ext cx="91440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Применение методов морфологического анализа при построении бизнес-процессов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32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следовательность работ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636EB1-F9FF-4C8A-9E83-2A01DA077F7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Rectangle 9"/>
          <p:cNvSpPr/>
          <p:nvPr/>
        </p:nvSpPr>
        <p:spPr>
          <a:xfrm>
            <a:off x="304920" y="985680"/>
            <a:ext cx="85770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270000" indent="-26676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Анализ существующих подходов к моделированию бизнес-процессов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270000" indent="-26676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Разработка метода выбраковки недопустимых с точки зрения ограничений и парето-неоптимальных вариантов построения бизнес-процесса, а также разработка программной реализации метода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270000" indent="-26676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Century Gothic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Математическая формулировка задачи оптимизации и анализ алгоритмов её решения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-800280"/>
            <a:ext cx="8229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имер исходных данных для анализ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18" name="Рисунок 2" descr=""/>
          <p:cNvPicPr/>
          <p:nvPr/>
        </p:nvPicPr>
        <p:blipFill>
          <a:blip r:embed="rId1"/>
          <a:stretch/>
        </p:blipFill>
        <p:spPr>
          <a:xfrm>
            <a:off x="297000" y="1292400"/>
            <a:ext cx="84708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358920"/>
            <a:ext cx="842184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ножество парето-оптимальных решений 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0" name="Slide Number Placeholder 3"/>
          <p:cNvSpPr/>
          <p:nvPr/>
        </p:nvSpPr>
        <p:spPr>
          <a:xfrm>
            <a:off x="372960" y="6629760"/>
            <a:ext cx="35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D88348-D857-4C15-BCDF-6622BCE1418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Rectangle 9"/>
          <p:cNvSpPr/>
          <p:nvPr/>
        </p:nvSpPr>
        <p:spPr>
          <a:xfrm>
            <a:off x="285840" y="1668600"/>
            <a:ext cx="842148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169920" indent="-16668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2" name="Диаграмма 8" descr=""/>
          <p:cNvPicPr/>
          <p:nvPr/>
        </p:nvPicPr>
        <p:blipFill>
          <a:blip r:embed="rId1"/>
          <a:stretch/>
        </p:blipFill>
        <p:spPr>
          <a:xfrm>
            <a:off x="79200" y="1042920"/>
            <a:ext cx="8730000" cy="5241960"/>
          </a:xfrm>
          <a:prstGeom prst="rect">
            <a:avLst/>
          </a:prstGeom>
          <a:ln w="0">
            <a:noFill/>
          </a:ln>
        </p:spPr>
      </p:pic>
      <p:sp>
        <p:nvSpPr>
          <p:cNvPr id="923" name="TextBox 1"/>
          <p:cNvSpPr/>
          <p:nvPr/>
        </p:nvSpPr>
        <p:spPr>
          <a:xfrm rot="16200000">
            <a:off x="-961920" y="2495520"/>
            <a:ext cx="329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Овал 2"/>
          <p:cNvSpPr/>
          <p:nvPr/>
        </p:nvSpPr>
        <p:spPr>
          <a:xfrm>
            <a:off x="1363680" y="4441680"/>
            <a:ext cx="422280" cy="420840"/>
          </a:xfrm>
          <a:prstGeom prst="ellipse">
            <a:avLst/>
          </a:prstGeom>
          <a:noFill/>
          <a:ln w="127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Овал 7"/>
          <p:cNvSpPr/>
          <p:nvPr/>
        </p:nvSpPr>
        <p:spPr>
          <a:xfrm>
            <a:off x="1292400" y="3048120"/>
            <a:ext cx="420480" cy="420480"/>
          </a:xfrm>
          <a:prstGeom prst="ellipse">
            <a:avLst/>
          </a:prstGeom>
          <a:noFill/>
          <a:ln w="127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87360" y="329760"/>
            <a:ext cx="842184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езультаты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Slide Number Placeholder 4"/>
          <p:cNvSpPr/>
          <p:nvPr/>
        </p:nvSpPr>
        <p:spPr>
          <a:xfrm>
            <a:off x="184320" y="6411960"/>
            <a:ext cx="35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D0FAC5-7291-493F-B533-9F892FCBD9A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9"/>
          <p:cNvSpPr/>
          <p:nvPr/>
        </p:nvSpPr>
        <p:spPr>
          <a:xfrm>
            <a:off x="479520" y="907920"/>
            <a:ext cx="831528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работе решена задача поиска экстремума нескольких целевых функций, определённых на множестве бизнес-процессов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роение множества процессов проведено с помощью модели  морфологического ящика Цвикки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87360" y="329760"/>
            <a:ext cx="842184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ыводы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184320" y="6411960"/>
            <a:ext cx="35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361BEE-6135-49B0-A649-F3D8D897DEA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79520" y="907920"/>
            <a:ext cx="831528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енный метод позволяет проводить системный анализ всех возможных вариантов построения бизнес-процесс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кращает время, затрачиваемое проектной командой при проектировани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зволяет наглядно отобразить инновации, привносимые в процесс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достаточно большом количестве альтернатив нет возможности построить точное решение задачи, используются приближённые алгоритмы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973160" y="2898720"/>
            <a:ext cx="51976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entury Gothic"/>
              </a:rPr>
              <a:t>Спасибо за внимание</a:t>
            </a: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5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3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ACC139-2EBA-45FD-9546-A44AA808901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Цель исследования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769680" y="1887480"/>
            <a:ext cx="767700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строение парето-оптимальных реализаций бизнес-процесса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ыявление наилучших наборов инструментов и функциональностей для его реализации с использованием морфологического подход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2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DFDA8E-F637-4B59-AF41-BAD12A53D741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-174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Актуальность задачи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275760" y="1436760"/>
            <a:ext cx="81853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птимальное построение бизнес-процессов является одной из существующих задач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стратегического планирования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едлагаемый в работе метод применяется на этап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выбора средств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роизводства и способа распределения ресурсо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</a:rPr>
              <a:t>при уже заданном наборе операций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 процесс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F9F1F2-EC19-4942-9B3D-ED3AA8B2EBF0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Новизна подход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20840" y="1916280"/>
            <a:ext cx="820080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В работе представлен метод построения комбинаторных структур процесса и предложен способ их визуализаци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существлена программная реализация метода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FBAA7A-B4FC-4610-A0A2-EA7C94AB739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еинжиниринг бизнес-процесс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69680" y="2206440"/>
            <a:ext cx="76770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нализ общей картин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нализ методом теории единиц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ирование процесс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Имитация процесс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06F996-BDA9-4419-A1BF-9CAEE2AE216A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Теория единиц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90487D-C361-4A33-9C63-FA880FABEC57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4" name="Рисунок 2" descr=""/>
          <p:cNvPicPr/>
          <p:nvPr/>
        </p:nvPicPr>
        <p:blipFill>
          <a:blip r:embed="rId1"/>
          <a:stretch/>
        </p:blipFill>
        <p:spPr>
          <a:xfrm>
            <a:off x="1944720" y="449280"/>
            <a:ext cx="4586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Реинжиниринг бизнес-процесс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769680" y="2206440"/>
            <a:ext cx="76770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нализ общей картин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Анализ методом теории единиц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Моделирование процесс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Имитация процесса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lvl="1" marL="971640" indent="-514440">
              <a:spcBef>
                <a:spcPts val="799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7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DFE50A-1879-4C10-9CAE-246EFF700739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-60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Морфологический подход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D666D7-E8E9-43A5-AA7A-842A2FDF18B6}" type="slidenum">
              <a:rPr b="0" lang="en-US" sz="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10" name="Рисунок 4" descr=""/>
          <p:cNvPicPr/>
          <p:nvPr/>
        </p:nvPicPr>
        <p:blipFill>
          <a:blip r:embed="rId1"/>
          <a:stretch/>
        </p:blipFill>
        <p:spPr>
          <a:xfrm>
            <a:off x="276120" y="1231920"/>
            <a:ext cx="101142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358920"/>
            <a:ext cx="8421480" cy="63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становка задачи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254F2F-E796-467F-829F-C90DB303A0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420840" y="1349280"/>
            <a:ext cx="767700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Множество всех возможных сочетаний альтернатив за исключением тех, которые не допускает матрица инцидентности и есть требуемое множество бизнес-процессов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3240">
              <a:lnSpc>
                <a:spcPct val="100000"/>
              </a:lnSpc>
              <a:spcBef>
                <a:spcPts val="1225"/>
              </a:spcBef>
              <a:spcAft>
                <a:spcPts val="876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В работе рассматривается задач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Gothic"/>
                <a:ea typeface="Arial"/>
              </a:rPr>
              <a:t>поиска экстремума целевых функций, определённых на множестве допустимых бизнес-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0:01:35Z</dcterms:created>
  <dc:creator>ор</dc:creator>
  <dc:description/>
  <dc:language>en-US</dc:language>
  <cp:lastModifiedBy>Пользователь Windows</cp:lastModifiedBy>
  <cp:lastPrinted>2003-08-11T14:00:49Z</cp:lastPrinted>
  <dcterms:modified xsi:type="dcterms:W3CDTF">2010-06-18T07:50:14Z</dcterms:modified>
  <cp:revision>1075</cp:revision>
  <dc:subject/>
  <dc:title>Master slide pack</dc:title>
</cp:coreProperties>
</file>